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20.jpeg" ContentType="image/jpeg"/>
  <Override PartName="/ppt/media/image14.gif" ContentType="image/gif"/>
  <Override PartName="/ppt/media/image17.jpeg" ContentType="image/jpeg"/>
  <Override PartName="/ppt/media/image1.png" ContentType="image/png"/>
  <Override PartName="/ppt/media/image7.jpeg" ContentType="image/jpeg"/>
  <Override PartName="/ppt/media/image18.png" ContentType="image/png"/>
  <Override PartName="/ppt/media/image15.gif" ContentType="image/gif"/>
  <Override PartName="/ppt/media/image19.png" ContentType="image/png"/>
  <Override PartName="/ppt/media/image16.gif" ContentType="image/gif"/>
  <Override PartName="/ppt/media/image2.wmf" ContentType="image/x-wmf"/>
  <Override PartName="/ppt/media/image3.gif" ContentType="image/gif"/>
  <Override PartName="/ppt/media/image4.png" ContentType="image/pn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082A-AA2F-4D36-9B67-E625D51A6F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6DBE-4861-4F13-9D53-F9282D2C88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6048-6D92-4035-BC53-8876D58303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3D14-5FD7-42B4-A914-5EFABF5C69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C4D4-8A5B-4B95-95A0-4211CD10D4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A6B-0D69-449B-A0FF-E6B63275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783-F105-43BA-AC55-C5B3D9F3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CEE-1422-49A6-9FE0-962228AC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D7C-80E0-4CB4-9DF6-14F13A06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AD5-C4C6-42AE-9665-C4547732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FD3-2647-437A-8D33-5281D160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859-FC54-42FA-80B4-95F3F315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D2C-8DA9-439F-8B78-81C183EF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DF17-94CF-45EE-ABA1-906696BE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328-8F33-4BD5-95E9-FD47D1D2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745-8FE6-40C2-B6C8-84037BA6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AEA-E8B0-42C1-A298-62F9FFD6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B787-698E-4F16-A188-A0DD2D83C8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shkola-internat4vid.narod2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i (28).jpg"/>
          <p:cNvPicPr/>
          <p:nvPr/>
        </p:nvPicPr>
        <p:blipFill>
          <a:blip r:embed="rId1"/>
          <a:stretch/>
        </p:blipFill>
        <p:spPr>
          <a:xfrm>
            <a:off x="23760" y="281160"/>
            <a:ext cx="9126720" cy="5662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3143160" y="3357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264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Franklin Gothic Medium"/>
              </a:rPr>
              <a:t>Приглашен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Franklin Gothic Medium"/>
              </a:rPr>
              <a:t>в театральную гостиную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Franklin Gothic Medium"/>
              </a:rPr>
              <a:t>или роль театрализаци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Franklin Gothic Medium"/>
              </a:rPr>
              <a:t>в развитии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Franklin Gothic Medium"/>
              </a:rPr>
              <a:t>слепых и слабовидящих детей.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71720" y="5886000"/>
            <a:ext cx="640080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Денега Светлана Викторовна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Franklin Gothic Book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категория).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52" name="Picture 5" descr="C:\Program Files (x86)\Microsoft Office\MEDIA\CAGCAT10\j0216516.wmf"/>
          <p:cNvPicPr/>
          <p:nvPr/>
        </p:nvPicPr>
        <p:blipFill>
          <a:blip r:embed="rId2"/>
          <a:stretch/>
        </p:blipFill>
        <p:spPr>
          <a:xfrm>
            <a:off x="7143840" y="714240"/>
            <a:ext cx="1573200" cy="1820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3507840" y="521496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Проек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458280" y="857160"/>
            <a:ext cx="83448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ы упражнений на развитие вообр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Ассоциа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ложите ребёнку любое слово, например, «лето». Какие ассоци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о вызывает, в какие сочетания вступае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Звуковые ассоциа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ушаем аудиозаписи со звуками природы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имся своими впечатления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ассоциац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Выведение следстви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лагается ряд вопросов, начинающихся со слов «Что произойдёт…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а ребёнка дать как можно более полные и оригинальные ответы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вленные вопро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рные вопросы: «Что произойдёт, если у тебя вырастут крылья? Ес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живут все сказочные герои? Если люди научатся читать мысли других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Рисунок 2" descr="3807.jpg"/>
          <p:cNvPicPr/>
          <p:nvPr/>
        </p:nvPicPr>
        <p:blipFill>
          <a:blip r:embed="rId1"/>
          <a:stretch/>
        </p:blipFill>
        <p:spPr>
          <a:xfrm>
            <a:off x="5473800" y="2206800"/>
            <a:ext cx="2835000" cy="4217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376200" y="285840"/>
            <a:ext cx="882180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ы упражнений на разви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моциональной сф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Тренируем эмо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просите ребёнка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хмурить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ак… осенняя туча, рассерж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, злая волшебница и т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лыбнуть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ак… кот на солнышке, само солнце, хитрая лиса и т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пугать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ак… ребёнок, потерявшийся в лесу; заяц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идевший волка;котёнок, на которого лает собака и т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Поделись эмоциями»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знесите любую фразу (например: «Здравствуй, дорогой друг!»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восторгом, насмешкой, с уважением, с негодова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Комплимент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дя в кругу, все берутся за руки. Глядя в глаза соседу, надо сказать е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сколько добрых слов, за что-то похвалить. Принимающий кивает голов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ворит: «Спасибо, мне очень приятно!» Затем он дарит комплимент свое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еду. Упражнение проводится по кру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Рисунок 2" descr="an13.gif"/>
          <p:cNvPicPr/>
          <p:nvPr/>
        </p:nvPicPr>
        <p:blipFill>
          <a:blip r:embed="rId1"/>
          <a:stretch/>
        </p:blipFill>
        <p:spPr>
          <a:xfrm>
            <a:off x="4071960" y="4429080"/>
            <a:ext cx="4222800" cy="755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4572000" y="3571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Рисунок 5" descr="an49.gif"/>
          <p:cNvPicPr/>
          <p:nvPr/>
        </p:nvPicPr>
        <p:blipFill>
          <a:blip r:embed="rId2"/>
          <a:stretch/>
        </p:blipFill>
        <p:spPr>
          <a:xfrm>
            <a:off x="673200" y="2286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smushenie-178.gif"/>
          <p:cNvPicPr/>
          <p:nvPr/>
        </p:nvPicPr>
        <p:blipFill>
          <a:blip r:embed="rId3"/>
          <a:stretch/>
        </p:blipFill>
        <p:spPr>
          <a:xfrm>
            <a:off x="7786800" y="71424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2857680" y="428760"/>
            <a:ext cx="11314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Л. С. Выготск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«В обычном представл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ворчество есть удел немногих избранных люде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ниев, талантов, которые создали вели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удожественные произведения, сделали больш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чные открыти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ой взгляд является неправильным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электричество действует и проявляется 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ько там, где величественная гроза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лепительные молнии, но и в лампоч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манного фонаря,  так точно и творчество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е существует не только там, где созд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ликие исторические произведения, но и вез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м, где человек воображает, комбиниру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яет и создаёт что-либо новое, какой 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пицей ни оказалось это новое по сравн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созданием гения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Рисунок 2" descr="19732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14200" y="571680"/>
            <a:ext cx="2592360" cy="3455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384840" y="214200"/>
            <a:ext cx="855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огнозируемыерезульта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 интереса к урокам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 устной речи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увеличение словарного запаса, совершенств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тонационных навыков и т. 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 памяти, воображ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моциональной сф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рекция недостатков двигательной сф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 коммуникабельности, умения работ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оллекти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адекватной самооценки у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 эстетического вк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огащение духовного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176400" y="928800"/>
            <a:ext cx="868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арианты методик для социально- психологичес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зучения школь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Rectangle 3" descr=""/>
          <p:cNvPicPr/>
          <p:nvPr/>
        </p:nvPicPr>
        <p:blipFill>
          <a:blip r:embed="rId1"/>
          <a:stretch/>
        </p:blipFill>
        <p:spPr>
          <a:xfrm>
            <a:off x="-19080" y="933480"/>
            <a:ext cx="9205920" cy="496728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286080" y="44290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6215040" y="4357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228040" y="35712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гност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2286000" y="5716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175680" y="5572080"/>
            <a:ext cx="814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спериментальное опреде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моциональности (методика К. К. Сергеев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94120" y="214200"/>
            <a:ext cx="899712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кспериментальное определение эмоциона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(Методика предложена К. К. Сергеевы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роведения эксперимента заготавливаются две карточки, на каждой 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торых написано по 35 слов. На карточке Н – нейтральные, на карточ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 – эмоциональные сло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стол, стена, камень, глина, песок, воздух, книга, барабан, брюки, ремен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пка, потолок, полка, ведро, тряпка, скамейка, волос, бумага, часы, руч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ица, кошка, птица, собака, линейка, тетрадь, парта, плита, сито, небо, па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а, лампа, река, лодк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Э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зачем сделал, сделала; что теперь будет; совесть, страх, раскаяние, сты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да, тревога, угроза, вина, страдание, боль, кровь, драка, нож, удар, выстре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гство, печаль, тоска, позор, измена, болезнь, испуг, потеря, разлука, ненави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сть, утрата, влечёт, радость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ытуемый должен прочитать слова, написанные на карточке 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максимальной скоростью, отчётливо произнося каждое слово. Врем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ения задания регистрируется с помощью секундом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тем так же поступают с карточкой Э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ботка и интерпретация результатов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ремя чт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рточки Э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ремя чтения карточки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м больше К, тем эмоциональнее испытуем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Мой фильм (2).wmv.wmv" descr=""/>
          <p:cNvPicPr/>
          <p:nvPr/>
        </p:nvPicPr>
        <p:blipFill>
          <a:blip r:embed="rId1"/>
          <a:stretch/>
        </p:blipFill>
        <p:spPr>
          <a:xfrm>
            <a:off x="0" y="1565280"/>
            <a:ext cx="9180360" cy="5164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1728000" y="571680"/>
            <a:ext cx="34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это наши дети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4279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shapka4-1.jpg"/>
          <p:cNvPicPr/>
          <p:nvPr/>
        </p:nvPicPr>
        <p:blipFill>
          <a:blip r:embed="rId1"/>
          <a:stretch/>
        </p:blipFill>
        <p:spPr>
          <a:xfrm>
            <a:off x="928800" y="1500120"/>
            <a:ext cx="7289640" cy="3240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2092320" y="5286240"/>
            <a:ext cx="497664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hkola-internat4vid.narod2.ru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1955520" y="714240"/>
            <a:ext cx="54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 пожаловать на наш сайт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462240" y="714240"/>
            <a:ext cx="8416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 работаю в одной из старейших школ города Владимира. В этом году 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сполняется 115 л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есколько слов из истории школы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4 (27) ноября 1895 г. Владимирским отделением попечительства императр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рии Александровны было открыто училище для незрячих детей на част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варти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9 октября 1900 г. – открытие специального здания училища в Стрелецкой слоб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Рисунок 3" descr="zdanie185h142.gif"/>
          <p:cNvPicPr/>
          <p:nvPr/>
        </p:nvPicPr>
        <p:blipFill>
          <a:blip r:embed="rId1"/>
          <a:stretch/>
        </p:blipFill>
        <p:spPr>
          <a:xfrm>
            <a:off x="2571840" y="3000240"/>
            <a:ext cx="4267080" cy="3276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39040" y="285840"/>
            <a:ext cx="8722800" cy="71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настоящее время  школа - это областное государственное специа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оррекционное) образовательное 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чреждение для обучающих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спитанников с ограниченными возможностями здоровья 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кола-интернат представляет собой учебный комплекс, в котор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учаются и живут воспитанники с различными заболеваниями глаз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остротой зрения на лучше видящем глазу с переносимой коррекци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0,05 до 0,4, дети с более высокой остротой зрения при налич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ессирующего заболевания. В школу принимаются слепые дет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е обучаются по системе Л.Брайля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жим работы: шестидневная учеб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еля для 5-12 класс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ятидневная – для 1-4 классов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нятия проводятся в одну сме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половина дня посвящена рабо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ужков, секций, общешкольным и группов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роприятиям, самоподготов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кола располагается в историческом центре города. Явля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ым специальным коррекционным образователь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реждением для обучения слабовидящих и слепых детей в области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Рисунок 2" descr="SP_A0168.jpg"/>
          <p:cNvPicPr/>
          <p:nvPr/>
        </p:nvPicPr>
        <p:blipFill>
          <a:blip r:embed="rId1"/>
          <a:stretch/>
        </p:blipFill>
        <p:spPr>
          <a:xfrm>
            <a:off x="5834160" y="3352680"/>
            <a:ext cx="307188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7" descr="SP_A0113.jpg"/>
          <p:cNvPicPr/>
          <p:nvPr/>
        </p:nvPicPr>
        <p:blipFill>
          <a:blip r:embed="rId1"/>
          <a:stretch/>
        </p:blipFill>
        <p:spPr>
          <a:xfrm>
            <a:off x="928800" y="4572000"/>
            <a:ext cx="2735280" cy="2052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8" descr="0_42212_f16c8851_M.jpg"/>
          <p:cNvPicPr/>
          <p:nvPr/>
        </p:nvPicPr>
        <p:blipFill>
          <a:blip r:embed="rId2"/>
          <a:stretch/>
        </p:blipFill>
        <p:spPr>
          <a:xfrm>
            <a:off x="5429160" y="4572000"/>
            <a:ext cx="2640240" cy="1979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0"/>
          <p:cNvSpPr/>
          <p:nvPr/>
        </p:nvSpPr>
        <p:spPr>
          <a:xfrm>
            <a:off x="471960" y="642960"/>
            <a:ext cx="8349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сновная цел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стоящая перед школой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здание коррекционно-развивающей сред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собствующей максимальному развит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сти каждого ребёнка, сохран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го физического и психического здоров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аптации детей с глубокими нарушен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рения к новым социальным услов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-841680" y="347760"/>
            <a:ext cx="10921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В своей педагогической работе мы с коллегами опираем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н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Franklin Gothic Book"/>
              </a:rPr>
              <a:t>основные положения, принципы современ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Franklin Gothic Book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Franklin Gothic Book"/>
              </a:rPr>
              <a:t>тифлопедагогики и тифлопсихологии</a:t>
            </a: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, а имен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1.Тифлопедагогика утверждает оптимистический взгляд 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развитие, обучение и воспитание слепых и слабовидящих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2.В целостном коррекционно-педагогическом процессе  в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планируемые занятия должны  быть нацелены на компенсац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дефекта, на эффективность развития ребё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3.Мобилизация здоровых сил, поиск резервных возможнос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способствуют коррекции и компенсации отклонений в развит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Рисунок 3" descr="ppc_e.jpg"/>
          <p:cNvPicPr/>
          <p:nvPr/>
        </p:nvPicPr>
        <p:blipFill>
          <a:blip r:embed="rId1"/>
          <a:stretch/>
        </p:blipFill>
        <p:spPr>
          <a:xfrm>
            <a:off x="2143080" y="5643720"/>
            <a:ext cx="1671840" cy="936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gg_e.jpg"/>
          <p:cNvPicPr/>
          <p:nvPr/>
        </p:nvPicPr>
        <p:blipFill>
          <a:blip r:embed="rId2"/>
          <a:stretch/>
        </p:blipFill>
        <p:spPr>
          <a:xfrm>
            <a:off x="5572080" y="5786280"/>
            <a:ext cx="1065240" cy="755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85840" y="1714680"/>
            <a:ext cx="871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Цель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здание условий для коррекции недостат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ичностного развития слепых и слабовидящих детей средствами театральной педагог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ормирование коммуникативной, социальной компетен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витие эмоциональной сферы, памяти, вообра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витие двигательных функ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ышение интереса к литератур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витие эстетического вку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огащение духовного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766080" y="571680"/>
            <a:ext cx="841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Организация и проведение театрализованных представле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 –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это одна из форм внеклассной работы по литератур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Рисунок 3" descr="i (35).jpg"/>
          <p:cNvPicPr/>
          <p:nvPr/>
        </p:nvPicPr>
        <p:blipFill>
          <a:blip r:embed="rId1"/>
          <a:stretch/>
        </p:blipFill>
        <p:spPr>
          <a:xfrm>
            <a:off x="5578560" y="4370400"/>
            <a:ext cx="3346200" cy="4524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641520" y="357120"/>
            <a:ext cx="863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част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атральная гостиная –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школьное мероприят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вящённое театру, литерату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зрителей – вся школ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дители, друзь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участников – ребята средн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таршего зв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роки пр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ало подготовки: октябрь-ноябрь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 – II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ер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дение: февраль – март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ерт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Рисунок 6" descr="i (41).jpg"/>
          <p:cNvPicPr/>
          <p:nvPr/>
        </p:nvPicPr>
        <p:blipFill>
          <a:blip r:embed="rId1"/>
          <a:stretch/>
        </p:blipFill>
        <p:spPr>
          <a:xfrm>
            <a:off x="-23760" y="-6480"/>
            <a:ext cx="3906720" cy="5145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467640" y="857160"/>
            <a:ext cx="841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Этапы раб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ыбор произведения для инсцениров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писание сценар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тение и обсуждение сценар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спределение ро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бота над рол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нятия по развитию речи, воображения, памяти, мимики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антомим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здание костюмов, декора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пети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Рисунок 2" descr="2.5.07 029.jpg"/>
          <p:cNvPicPr/>
          <p:nvPr/>
        </p:nvPicPr>
        <p:blipFill>
          <a:blip r:embed="rId1"/>
          <a:stretch/>
        </p:blipFill>
        <p:spPr>
          <a:xfrm>
            <a:off x="5334120" y="3638520"/>
            <a:ext cx="3408120" cy="5072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633240" y="60156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ы упражнений на разви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мики и пантомим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442440" y="1500120"/>
            <a:ext cx="8071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Войди в образ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жно пройти по сцене и сесть, сосредоточитьс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ать и пройти уже в образе того или иного челове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чень старого, больного, к кому-то подкрадывающего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-то ищущего, от кого-то спасающегося и т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Профессионал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образите себя представителем той или иной профессии и без сло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омощи искусства пантомимы покажите этого профессиона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ействии. Вспомните, кем работают ваши родители или знаком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торопитесь, действуйте последовательно и логич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Если это упражнение проводится в группе, «зрители» могут отгадыва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го вы изобразили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Рисунок 3" descr="image006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7000920" y="1428840"/>
            <a:ext cx="1957320" cy="2411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45:33Z</dcterms:created>
  <dc:creator>Светлана</dc:creator>
  <dc:description/>
  <dc:language>en-US</dc:language>
  <cp:lastModifiedBy>Светлана</cp:lastModifiedBy>
  <dcterms:modified xsi:type="dcterms:W3CDTF">2010-12-02T20:49:59Z</dcterms:modified>
  <cp:revision>134</cp:revision>
  <dc:subject/>
  <dc:title>Приглашение в театральную гостиную, или роль театрализации в развитии  слепых и слабовидящих детей.</dc:title>
</cp:coreProperties>
</file>