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12.jpeg" ContentType="image/jpeg"/>
  <Override PartName="/ppt/media/image13.png" ContentType="image/png"/>
  <Override PartName="/ppt/media/image11.png" ContentType="image/png"/>
  <Override PartName="/ppt/media/image20.jpeg" ContentType="image/jpeg"/>
  <Override PartName="/ppt/media/image14.gif" ContentType="image/gif"/>
  <Override PartName="/ppt/media/image17.jpeg" ContentType="image/jpeg"/>
  <Override PartName="/ppt/media/image1.png" ContentType="image/png"/>
  <Override PartName="/ppt/media/image7.jpeg" ContentType="image/jpeg"/>
  <Override PartName="/ppt/media/image18.png" ContentType="image/png"/>
  <Override PartName="/ppt/media/image15.gif" ContentType="image/gif"/>
  <Override PartName="/ppt/media/image19.png" ContentType="image/png"/>
  <Override PartName="/ppt/media/image16.gif" ContentType="image/gif"/>
  <Override PartName="/ppt/media/image2.wmf" ContentType="image/x-wmf"/>
  <Override PartName="/ppt/media/image3.gif" ContentType="image/gif"/>
  <Override PartName="/ppt/media/image4.png" ContentType="image/png"/>
  <Override PartName="/ppt/media/image8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Medium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C87D2-8A8F-4746-AEF4-B344D32578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15091-247B-412D-947B-9F920993357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13E7E-0471-45EE-8543-7F36C7A3C32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17016-C4F3-4069-B446-19237106A14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BDCFC-16B7-4E37-A63A-71694D0C775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4EDA-F61A-4547-9067-32DC24888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B008-E637-4A1F-BFF7-96A7928E4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0D05-9E48-4B80-A480-72E0F07D0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1A71-81D8-4115-8F43-62E96CFE7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BE4A-394B-4F4C-BE1C-C44C95FFE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1ACA-A747-4733-AE5D-CA61362CB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FC7B-1D93-4E4C-8E81-1EBCD7B01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D541-E3EA-4C6E-97D3-F275435FF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DDBE-BDF0-4A36-ADFC-D95862993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BC5C-E6F0-47A1-9906-41C63264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68E0-08BE-4296-AB69-2A4B2E53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A32B-D631-4968-94D9-9F733752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33CF2-10D9-4EA1-84D2-88720651649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shkola-internat4vid.narod2.ru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4" descr="i (28).jpg"/>
          <p:cNvPicPr/>
          <p:nvPr/>
        </p:nvPicPr>
        <p:blipFill>
          <a:blip r:embed="rId1"/>
          <a:stretch/>
        </p:blipFill>
        <p:spPr>
          <a:xfrm>
            <a:off x="23760" y="281160"/>
            <a:ext cx="9126720" cy="5662440"/>
          </a:xfrm>
          <a:prstGeom prst="rect">
            <a:avLst/>
          </a:prstGeom>
          <a:ln w="0">
            <a:noFill/>
          </a:ln>
        </p:spPr>
      </p:pic>
      <p:sp>
        <p:nvSpPr>
          <p:cNvPr id="49" name="TextBox 5"/>
          <p:cNvSpPr/>
          <p:nvPr/>
        </p:nvSpPr>
        <p:spPr>
          <a:xfrm>
            <a:off x="3143160" y="33577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680" y="2643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Franklin Gothic Medium"/>
              </a:rPr>
              <a:t>Приглашение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Franklin Gothic Medium"/>
              </a:rPr>
              <a:t>в театральную гостиную,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Franklin Gothic Medium"/>
              </a:rPr>
              <a:t>или роль театрализации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Franklin Gothic Medium"/>
              </a:rPr>
              <a:t>в развитии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Franklin Gothic Medium"/>
              </a:rPr>
              <a:t>слепых и слабовидящих детей.</a:t>
            </a:r>
            <a:endParaRPr b="0" lang="en-US" sz="40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71720" y="5886000"/>
            <a:ext cx="6400800" cy="9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Franklin Gothic Book"/>
              </a:rPr>
              <a:t>Учитель русского языка и литературы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Franklin Gothic Book"/>
              </a:rPr>
              <a:t>Денега Светлана Викторовна 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Franklin Gothic Book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Franklin Gothic Book"/>
              </a:rPr>
              <a:t>I </a:t>
            </a:r>
            <a:r>
              <a:rPr b="1" lang="ru-RU" sz="2000" spc="-1" strike="noStrike">
                <a:solidFill>
                  <a:srgbClr val="ffffff"/>
                </a:solidFill>
                <a:latin typeface="Franklin Gothic Book"/>
              </a:rPr>
              <a:t>категория).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52" name="Picture 5" descr="C:\Program Files (x86)\Microsoft Office\MEDIA\CAGCAT10\j0216516.wmf"/>
          <p:cNvPicPr/>
          <p:nvPr/>
        </p:nvPicPr>
        <p:blipFill>
          <a:blip r:embed="rId2"/>
          <a:stretch/>
        </p:blipFill>
        <p:spPr>
          <a:xfrm>
            <a:off x="7143840" y="714240"/>
            <a:ext cx="1573200" cy="1820880"/>
          </a:xfrm>
          <a:prstGeom prst="rect">
            <a:avLst/>
          </a:prstGeom>
          <a:ln w="0">
            <a:noFill/>
          </a:ln>
        </p:spPr>
      </p:pic>
      <p:sp>
        <p:nvSpPr>
          <p:cNvPr id="53" name="TextBox 6"/>
          <p:cNvSpPr/>
          <p:nvPr/>
        </p:nvSpPr>
        <p:spPr>
          <a:xfrm>
            <a:off x="3507840" y="5214960"/>
            <a:ext cx="153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Проект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1"/>
          <p:cNvSpPr/>
          <p:nvPr/>
        </p:nvSpPr>
        <p:spPr>
          <a:xfrm>
            <a:off x="458280" y="857160"/>
            <a:ext cx="834480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меры упражнений на развитие воображ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«Ассоциации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дложите ребёнку любое слово, например, «лето». Какие ассоци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но вызывает, в какие сочетания вступает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«Звуковые ассоциации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лушаем аудиозаписи со звуками природы 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лимся своими впечатлениям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ассоциация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«Выведение следствий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длагается ряд вопросов, начинающихся со слов «Что произойдёт…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дача ребёнка дать как можно более полные и оригинальные ответы 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ставленные вопрос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мерные вопросы: «Что произойдёт, если у тебя вырастут крылья? Есл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живут все сказочные герои? Если люди научатся читать мысли других?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Рисунок 2" descr="3807.jpg"/>
          <p:cNvPicPr/>
          <p:nvPr/>
        </p:nvPicPr>
        <p:blipFill>
          <a:blip r:embed="rId1"/>
          <a:stretch/>
        </p:blipFill>
        <p:spPr>
          <a:xfrm>
            <a:off x="5473800" y="2206800"/>
            <a:ext cx="2835000" cy="42177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1"/>
          <p:cNvSpPr/>
          <p:nvPr/>
        </p:nvSpPr>
        <p:spPr>
          <a:xfrm>
            <a:off x="376200" y="285840"/>
            <a:ext cx="8821800" cy="61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меры упражнений на развит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моциональной сфе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«Тренируем эмоции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просите ребёнка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нахмуритьс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как… осенняя туча, рассержен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еловек, злая волшебница и т. 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Улыбнутьс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как… кот на солнышке, само солнце, хитрая лиса и т. 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Испугатьс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как… ребёнок, потерявшийся в лесу; заяц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видевший волка;котёнок, на которого лает собака и т. 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«Поделись эмоциями»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изнесите любую фразу (например: «Здравствуй, дорогой друг!»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 восторгом, насмешкой, с уважением, с негодование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«Комплименты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идя в кругу, все берутся за руки. Глядя в глаза соседу, надо сказать ем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сколько добрых слов, за что-то похвалить. Принимающий кивает головой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оворит: «Спасибо, мне очень приятно!» Затем он дарит комплимент своем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седу. Упражнение проводится по круг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Рисунок 2" descr="an13.gif"/>
          <p:cNvPicPr/>
          <p:nvPr/>
        </p:nvPicPr>
        <p:blipFill>
          <a:blip r:embed="rId1"/>
          <a:stretch/>
        </p:blipFill>
        <p:spPr>
          <a:xfrm>
            <a:off x="4071960" y="4429080"/>
            <a:ext cx="4222800" cy="755640"/>
          </a:xfrm>
          <a:prstGeom prst="rect">
            <a:avLst/>
          </a:prstGeom>
          <a:ln w="0">
            <a:noFill/>
          </a:ln>
        </p:spPr>
      </p:pic>
      <p:sp>
        <p:nvSpPr>
          <p:cNvPr id="78" name="TextBox 3"/>
          <p:cNvSpPr/>
          <p:nvPr/>
        </p:nvSpPr>
        <p:spPr>
          <a:xfrm>
            <a:off x="4572000" y="35719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Рисунок 5" descr="an49.gif"/>
          <p:cNvPicPr/>
          <p:nvPr/>
        </p:nvPicPr>
        <p:blipFill>
          <a:blip r:embed="rId2"/>
          <a:stretch/>
        </p:blipFill>
        <p:spPr>
          <a:xfrm>
            <a:off x="673200" y="228600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6" descr="smushenie-178.gif"/>
          <p:cNvPicPr/>
          <p:nvPr/>
        </p:nvPicPr>
        <p:blipFill>
          <a:blip r:embed="rId3"/>
          <a:stretch/>
        </p:blipFill>
        <p:spPr>
          <a:xfrm>
            <a:off x="7786800" y="714240"/>
            <a:ext cx="863640" cy="8636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1"/>
          <p:cNvSpPr/>
          <p:nvPr/>
        </p:nvSpPr>
        <p:spPr>
          <a:xfrm>
            <a:off x="2857680" y="428760"/>
            <a:ext cx="113140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Л. С. Выготски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: «В обычном представлен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ворчество есть удел немногих избранных людей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ениев, талантов, которые создали велик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художественные произведения, сделали больш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учные открытия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акой взгляд является неправильным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к электричество действует и проявляется н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олько там, где величественная гроза 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лепительные молнии, но и в лампочк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рманного фонаря,  так точно и творчество н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ле существует не только там, где создаю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еликие исторические произведения, но и везд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ам, где человек воображает, комбинирует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меняет и создаёт что-либо новое, какой б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рупицей ни оказалось это новое по сравнени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 созданием гения…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Рисунок 2" descr="19732.jpg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214200" y="571680"/>
            <a:ext cx="2592360" cy="34556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1"/>
          <p:cNvSpPr/>
          <p:nvPr/>
        </p:nvSpPr>
        <p:spPr>
          <a:xfrm>
            <a:off x="384840" y="214200"/>
            <a:ext cx="855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рогнозируемыерезультат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вышение интереса к урокам литера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витие устной речи учащих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увеличение словарного запаса, совершенствов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нтонационных навыков и т. д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витие памяти, воображения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моциональной сфе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ррекция недостатков двигательной сфе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витие коммуникабельности, умения работа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коллектив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ормирование адекватной самооценки у учащих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витие эстетического вку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огащение духовного ми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1"/>
          <p:cNvSpPr/>
          <p:nvPr/>
        </p:nvSpPr>
        <p:spPr>
          <a:xfrm>
            <a:off x="176400" y="928800"/>
            <a:ext cx="8681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арианты методик для социально- психологическо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изучения школьник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Rectangle 3" descr=""/>
          <p:cNvPicPr/>
          <p:nvPr/>
        </p:nvPicPr>
        <p:blipFill>
          <a:blip r:embed="rId1"/>
          <a:stretch/>
        </p:blipFill>
        <p:spPr>
          <a:xfrm>
            <a:off x="-19080" y="933480"/>
            <a:ext cx="9205920" cy="4967280"/>
          </a:xfrm>
          <a:prstGeom prst="rect">
            <a:avLst/>
          </a:prstGeom>
          <a:ln w="0">
            <a:noFill/>
          </a:ln>
        </p:spPr>
      </p:pic>
      <p:sp>
        <p:nvSpPr>
          <p:cNvPr id="86" name="TextBox 3"/>
          <p:cNvSpPr/>
          <p:nvPr/>
        </p:nvSpPr>
        <p:spPr>
          <a:xfrm>
            <a:off x="3286080" y="442908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Box 4"/>
          <p:cNvSpPr/>
          <p:nvPr/>
        </p:nvSpPr>
        <p:spPr>
          <a:xfrm>
            <a:off x="6215040" y="435780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Box 5"/>
          <p:cNvSpPr/>
          <p:nvPr/>
        </p:nvSpPr>
        <p:spPr>
          <a:xfrm>
            <a:off x="2228040" y="357120"/>
            <a:ext cx="249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иагности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Box 6"/>
          <p:cNvSpPr/>
          <p:nvPr/>
        </p:nvSpPr>
        <p:spPr>
          <a:xfrm>
            <a:off x="2286000" y="57168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Box 8"/>
          <p:cNvSpPr/>
          <p:nvPr/>
        </p:nvSpPr>
        <p:spPr>
          <a:xfrm>
            <a:off x="175680" y="5572080"/>
            <a:ext cx="814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Экспериментальное определ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эмоциональности (методика К. К. Сергеева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294120" y="214200"/>
            <a:ext cx="8997120" cy="68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Экспериментальное определение эмоциональ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(Методика предложена К. К. Сергеевым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ля проведения эксперимента заготавливаются две карточки, на каждой и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торых написано по 35 слов. На карточке Н – нейтральные, на карточк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 – эмоциональные слов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Н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стол, стена, камень, глина, песок, воздух, книга, барабан, брюки, ремень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апка, потолок, полка, ведро, тряпка, скамейка, волос, бумага, часы, ручк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лица, кошка, птица, собака, линейка, тетрадь, парта, плита, сито, небо, пар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да, лампа, река, лодка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Э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зачем сделал, сделала; что теперь будет; совесть, страх, раскаяние, стыд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еда, тревога, угроза, вина, страдание, боль, кровь, драка, нож, удар, выстрел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егство, печаль, тоска, позор, измена, болезнь, испуг, потеря, разлука, ненависть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сть, утрата, влечёт, радость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спытуемый должен прочитать слова, написанные на карточке Н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 максимальной скоростью, отчётливо произнося каждое слово. Врем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полнения задания регистрируется с помощью секундомер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тем так же поступают с карточкой Э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работка и интерпретация результатов: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/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где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время чт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рточки Э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время чтения карточки 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ем больше К, тем эмоциональнее испытуемы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Мой фильм (2).wmv.wmv" descr=""/>
          <p:cNvPicPr/>
          <p:nvPr/>
        </p:nvPicPr>
        <p:blipFill>
          <a:blip r:embed="rId1"/>
          <a:stretch/>
        </p:blipFill>
        <p:spPr>
          <a:xfrm>
            <a:off x="0" y="1565280"/>
            <a:ext cx="9180360" cy="5164200"/>
          </a:xfrm>
          <a:prstGeom prst="rect">
            <a:avLst/>
          </a:prstGeom>
          <a:ln w="0">
            <a:noFill/>
          </a:ln>
        </p:spPr>
      </p:pic>
      <p:sp>
        <p:nvSpPr>
          <p:cNvPr id="93" name="TextBox 5"/>
          <p:cNvSpPr/>
          <p:nvPr/>
        </p:nvSpPr>
        <p:spPr>
          <a:xfrm>
            <a:off x="1728000" y="571680"/>
            <a:ext cx="341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 это наши дети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42794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8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1" descr="shapka4-1.jpg"/>
          <p:cNvPicPr/>
          <p:nvPr/>
        </p:nvPicPr>
        <p:blipFill>
          <a:blip r:embed="rId1"/>
          <a:stretch/>
        </p:blipFill>
        <p:spPr>
          <a:xfrm>
            <a:off x="928800" y="1500120"/>
            <a:ext cx="7289640" cy="3240000"/>
          </a:xfrm>
          <a:prstGeom prst="rect">
            <a:avLst/>
          </a:prstGeom>
          <a:ln w="0">
            <a:noFill/>
          </a:ln>
        </p:spPr>
      </p:pic>
      <p:sp>
        <p:nvSpPr>
          <p:cNvPr id="95" name="TextBox 5"/>
          <p:cNvSpPr/>
          <p:nvPr/>
        </p:nvSpPr>
        <p:spPr>
          <a:xfrm>
            <a:off x="2092320" y="5286240"/>
            <a:ext cx="4976640" cy="119124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shkola-internat4vid.narod2.ru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Box 8"/>
          <p:cNvSpPr/>
          <p:nvPr/>
        </p:nvSpPr>
        <p:spPr>
          <a:xfrm>
            <a:off x="1955520" y="714240"/>
            <a:ext cx="549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бро пожаловать на наш сайт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2"/>
          <p:cNvSpPr/>
          <p:nvPr/>
        </p:nvSpPr>
        <p:spPr>
          <a:xfrm>
            <a:off x="462240" y="714240"/>
            <a:ext cx="8416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Я работаю в одной из старейших школ города Владимира. В этом году 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исполняется 115 лет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Несколько слов из истории школы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14 (27) ноября 1895 г. Владимирским отделением попечительства императриц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Марии Александровны было открыто училище для незрячих детей на частн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квартир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29 октября 1900 г. – открытие специального здания училища в Стрелецкой слобод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Рисунок 3" descr="zdanie185h142.gif"/>
          <p:cNvPicPr/>
          <p:nvPr/>
        </p:nvPicPr>
        <p:blipFill>
          <a:blip r:embed="rId1"/>
          <a:stretch/>
        </p:blipFill>
        <p:spPr>
          <a:xfrm>
            <a:off x="2571840" y="3000240"/>
            <a:ext cx="4267080" cy="3276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239040" y="285840"/>
            <a:ext cx="8722800" cy="71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настоящее время  школа - это областное государственное специальн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коррекционное) образовательное 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учреждение для обучающихся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оспитанников с ограниченными возможностями здоровья .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Школа-интернат представляет собой учебный комплекс, в которо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учаются и живут воспитанники с различными заболеваниями глаз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 остротой зрения на лучше видящем глазу с переносимой коррекцие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 0,05 до 0,4, дети с более высокой остротой зрения при налич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грессирующего заболевания. В школу принимаются слепые дети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торые обучаются по системе Л.Брайля.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жим работы: шестидневная учебн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деля для 5-12 классов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ятидневная – для 1-4 классов.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нятия проводятся в одну смен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торая половина дня посвящена работ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ужков, секций, общешкольным и групповы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роприятиям, самоподготовк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Школа располагается в историческом центре города. Являет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динственным специальным коррекционным образовательны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реждением для обучения слабовидящих и слепых детей в области.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Рисунок 2" descr="SP_A0168.jpg"/>
          <p:cNvPicPr/>
          <p:nvPr/>
        </p:nvPicPr>
        <p:blipFill>
          <a:blip r:embed="rId1"/>
          <a:stretch/>
        </p:blipFill>
        <p:spPr>
          <a:xfrm>
            <a:off x="5834160" y="3352680"/>
            <a:ext cx="3071880" cy="4572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17" descr="SP_A0113.jpg"/>
          <p:cNvPicPr/>
          <p:nvPr/>
        </p:nvPicPr>
        <p:blipFill>
          <a:blip r:embed="rId1"/>
          <a:stretch/>
        </p:blipFill>
        <p:spPr>
          <a:xfrm>
            <a:off x="928800" y="4572000"/>
            <a:ext cx="2735280" cy="20527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8" descr="0_42212_f16c8851_M.jpg"/>
          <p:cNvPicPr/>
          <p:nvPr/>
        </p:nvPicPr>
        <p:blipFill>
          <a:blip r:embed="rId2"/>
          <a:stretch/>
        </p:blipFill>
        <p:spPr>
          <a:xfrm>
            <a:off x="5429160" y="4572000"/>
            <a:ext cx="2640240" cy="1979640"/>
          </a:xfrm>
          <a:prstGeom prst="rect">
            <a:avLst/>
          </a:prstGeom>
          <a:ln w="0">
            <a:noFill/>
          </a:ln>
        </p:spPr>
      </p:pic>
      <p:sp>
        <p:nvSpPr>
          <p:cNvPr id="60" name="TextBox 20"/>
          <p:cNvSpPr/>
          <p:nvPr/>
        </p:nvSpPr>
        <p:spPr>
          <a:xfrm>
            <a:off x="471960" y="642960"/>
            <a:ext cx="8349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Основная цель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, стоящая перед школой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здание коррекционно-развивающей среды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пособствующей максимальному развити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ичности каждого ребёнка, сохранени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го физического и психического здоровь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даптации детей с глубокими нарушения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рения к новым социальным условия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2"/>
          <p:cNvSpPr/>
          <p:nvPr/>
        </p:nvSpPr>
        <p:spPr>
          <a:xfrm>
            <a:off x="-841680" y="347760"/>
            <a:ext cx="109216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Franklin Gothic Book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Franklin Gothic Book"/>
              </a:rPr>
              <a:t>В своей педагогической работе мы с коллегами опираем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Franklin Gothic Book"/>
              </a:rPr>
              <a:t>на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Franklin Gothic Book"/>
              </a:rPr>
              <a:t>основные положения, принципы современн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Franklin Gothic Book"/>
              </a:rPr>
              <a:t>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Franklin Gothic Book"/>
              </a:rPr>
              <a:t>тифлопедагогики и тифлопсихологии</a:t>
            </a:r>
            <a:r>
              <a:rPr b="1" lang="ru-RU" sz="2400" spc="-1" strike="noStrike">
                <a:solidFill>
                  <a:srgbClr val="ffffff"/>
                </a:solidFill>
                <a:latin typeface="Franklin Gothic Book"/>
              </a:rPr>
              <a:t>, а именно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Franklin Gothic Book"/>
              </a:rPr>
              <a:t>1.Тифлопедагогика утверждает оптимистический взгляд  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Franklin Gothic Book"/>
              </a:rPr>
              <a:t>развитие, обучение и воспитание слепых и слабовидящих дет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Franklin Gothic Book"/>
              </a:rPr>
              <a:t>2.В целостном коррекционно-педагогическом процессе  вс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Franklin Gothic Book"/>
              </a:rPr>
              <a:t>планируемые занятия должны  быть нацелены на компенсаци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Franklin Gothic Book"/>
              </a:rPr>
              <a:t>дефекта, на эффективность развития ребён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Franklin Gothic Book"/>
              </a:rPr>
              <a:t>3.Мобилизация здоровых сил, поиск резервных возможносте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Franklin Gothic Book"/>
              </a:rPr>
              <a:t>способствуют коррекции и компенсации отклонений в развит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Franklin Gothic Book"/>
              </a:rPr>
              <a:t>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Рисунок 3" descr="ppc_e.jpg"/>
          <p:cNvPicPr/>
          <p:nvPr/>
        </p:nvPicPr>
        <p:blipFill>
          <a:blip r:embed="rId1"/>
          <a:stretch/>
        </p:blipFill>
        <p:spPr>
          <a:xfrm>
            <a:off x="2143080" y="5643720"/>
            <a:ext cx="1671840" cy="93636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4" descr="gg_e.jpg"/>
          <p:cNvPicPr/>
          <p:nvPr/>
        </p:nvPicPr>
        <p:blipFill>
          <a:blip r:embed="rId2"/>
          <a:stretch/>
        </p:blipFill>
        <p:spPr>
          <a:xfrm>
            <a:off x="5572080" y="5786280"/>
            <a:ext cx="1065240" cy="7556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"/>
          <p:cNvSpPr/>
          <p:nvPr/>
        </p:nvSpPr>
        <p:spPr>
          <a:xfrm>
            <a:off x="285840" y="1714680"/>
            <a:ext cx="8715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   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</a:rPr>
              <a:t>Цель: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создание условий для коррекции недостат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личностного развития слепых и слабовидящих детей средствами театральной педагогик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   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</a:rPr>
              <a:t>Задач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формирование коммуникативной, социальной компетенц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развитие эмоциональной сферы, памяти, воображ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развитие двигательных функц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овышение интереса к литератур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развитие эстетического вкус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обогащение духовного ми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Box 2"/>
          <p:cNvSpPr/>
          <p:nvPr/>
        </p:nvSpPr>
        <p:spPr>
          <a:xfrm>
            <a:off x="766080" y="571680"/>
            <a:ext cx="841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</a:rPr>
              <a:t>Организация и проведение театрализованных представлени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</a:rPr>
              <a:t> –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</a:rPr>
              <a:t>это одна из форм внеклассной работы по литературе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Рисунок 3" descr="i (35).jpg"/>
          <p:cNvPicPr/>
          <p:nvPr/>
        </p:nvPicPr>
        <p:blipFill>
          <a:blip r:embed="rId1"/>
          <a:stretch/>
        </p:blipFill>
        <p:spPr>
          <a:xfrm>
            <a:off x="5578560" y="4370400"/>
            <a:ext cx="3346200" cy="45244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2"/>
          <p:cNvSpPr/>
          <p:nvPr/>
        </p:nvSpPr>
        <p:spPr>
          <a:xfrm>
            <a:off x="641520" y="357120"/>
            <a:ext cx="86360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Участни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атральная гостиная – эт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щешкольное мероприяти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свящённое театру, литератур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качестве зрителей – вся школ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одители, друзь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качестве участников – ребята средне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 старшего зве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Сроки провед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чало подготовки: октябрь-ноябрь 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 – II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етверть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ведение: февраль – март 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II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етверть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Рисунок 6" descr="i (41).jpg"/>
          <p:cNvPicPr/>
          <p:nvPr/>
        </p:nvPicPr>
        <p:blipFill>
          <a:blip r:embed="rId1"/>
          <a:stretch/>
        </p:blipFill>
        <p:spPr>
          <a:xfrm>
            <a:off x="-23760" y="-6480"/>
            <a:ext cx="3906720" cy="51451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1"/>
          <p:cNvSpPr/>
          <p:nvPr/>
        </p:nvSpPr>
        <p:spPr>
          <a:xfrm>
            <a:off x="467640" y="857160"/>
            <a:ext cx="8417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</a:rPr>
              <a:t>Этапы работ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ыбор произведения для инсценировк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написание сценар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чтение и обсуждение сценар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распределение роле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работа над ролью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занятия по развитию речи, воображения, памяти, мимики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антомимик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создание костюмов, декорац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репети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Рисунок 2" descr="2.5.07 029.jpg"/>
          <p:cNvPicPr/>
          <p:nvPr/>
        </p:nvPicPr>
        <p:blipFill>
          <a:blip r:embed="rId1"/>
          <a:stretch/>
        </p:blipFill>
        <p:spPr>
          <a:xfrm>
            <a:off x="5334120" y="3638520"/>
            <a:ext cx="3408120" cy="50720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1"/>
          <p:cNvSpPr/>
          <p:nvPr/>
        </p:nvSpPr>
        <p:spPr>
          <a:xfrm>
            <a:off x="633240" y="601560"/>
            <a:ext cx="7786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меры упражнений на развит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имики и пантомими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442440" y="1500120"/>
            <a:ext cx="8071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«Войди в образ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ужно пройти по сцене и сесть, сосредоточиться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стать и пройти уже в образе того или иного человек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чень старого, больного, к кому-то подкрадывающегося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то-то ищущего, от кого-то спасающегося и т. 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«Профессионалы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образите себя представителем той или иной профессии и без слов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 помощи искусства пантомимы покажите этого профессионал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действии. Вспомните, кем работают ваши родители или знакомы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 торопитесь, действуйте последовательно и логичн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Если это упражнение проводится в группе, «зрители» могут отгадывать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го вы изобразили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Рисунок 3" descr="image006.jpg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7000920" y="1428840"/>
            <a:ext cx="1957320" cy="24112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7T14:45:33Z</dcterms:created>
  <dc:creator>Светлана</dc:creator>
  <dc:description/>
  <dc:language>en-US</dc:language>
  <cp:lastModifiedBy>Светлана</cp:lastModifiedBy>
  <dcterms:modified xsi:type="dcterms:W3CDTF">2010-12-02T20:49:59Z</dcterms:modified>
  <cp:revision>134</cp:revision>
  <dc:subject/>
  <dc:title>Приглашение в театральную гостиную, или роль театрализации в развитии  слепых и слабовидящих детей.</dc:title>
</cp:coreProperties>
</file>