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6A021-012E-459D-B4E4-39C86C2F8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6F55-7AAF-4D95-979F-6D5A32ECA5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2C79E-F6E0-47E9-B0CD-C8977D157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0D32-F348-4E04-BAE0-E92F194FF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9EAA-E9A1-46A0-B848-F8E3B35746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F9DD9-7EB8-46AB-8975-424FC1F121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F7836-8CC5-4B64-9685-D0F73CF1BA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C13B-017C-46BB-8BAB-7BEFAC87E6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3599-49F9-4D1A-9225-AE4472DF10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7F5B5-421C-46C9-83ED-BE939485FA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52075-8FA5-46DA-989D-D8A23DB70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C2AE-AFC7-4001-B62E-502151DC9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4786-554A-4F20-9254-8A40A43C3F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3B87-513F-4CC3-A498-6FCF1B0DD1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8664D-B72A-49DB-A239-9A6B91E6C0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C162-123F-4610-8182-B75A5C7871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27240"/>
            <a:ext cx="264924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B96D9-07CF-429C-8AC9-701E5D7DF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334F5-6A62-4EF4-B7D0-4D99D3FE9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FD9C7-7B88-46B6-9F3E-DC8E0D2A9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987F-02B6-4C04-9402-93F5DB8C6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-485640"/>
            <a:ext cx="8242560" cy="88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B47AD-D8AF-4779-BC24-02BCD2835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8E87-FA14-46F1-AA06-FDBEE534F3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2724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BDE5-DE9A-42BF-9818-C4323B35F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8160" cy="21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FB901-B7F8-4D42-98A9-EAE141A62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189360" y="-192240"/>
            <a:ext cx="2926800" cy="7046640"/>
            <a:chOff x="-189360" y="-192240"/>
            <a:chExt cx="2926800" cy="7046640"/>
          </a:xfrm>
        </p:grpSpPr>
        <p:sp>
          <p:nvSpPr>
            <p:cNvPr id="1" name="AutoShape 2"/>
            <p:cNvSpPr/>
            <p:nvPr/>
          </p:nvSpPr>
          <p:spPr>
            <a:xfrm>
              <a:off x="-87480" y="5155560"/>
              <a:ext cx="769680" cy="128880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-43560" y="3836160"/>
              <a:ext cx="1024560" cy="803880"/>
              <a:chOff x="-43560" y="3836160"/>
              <a:chExt cx="1024560" cy="803880"/>
            </a:xfrm>
          </p:grpSpPr>
          <p:sp>
            <p:nvSpPr>
              <p:cNvPr id="3" name="AutoShape 4"/>
              <p:cNvSpPr/>
              <p:nvPr/>
            </p:nvSpPr>
            <p:spPr>
              <a:xfrm flipH="1" rot="14940000">
                <a:off x="17280" y="3855960"/>
                <a:ext cx="251640" cy="303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AutoShape 5"/>
              <p:cNvSpPr/>
              <p:nvPr/>
            </p:nvSpPr>
            <p:spPr>
              <a:xfrm flipH="1" rot="14940000">
                <a:off x="201600" y="4266360"/>
                <a:ext cx="432720" cy="252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 flipH="1" rot="14940000">
                <a:off x="614520" y="4096080"/>
                <a:ext cx="452160" cy="127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" name="AutoShape 7"/>
            <p:cNvSpPr/>
            <p:nvPr/>
          </p:nvSpPr>
          <p:spPr>
            <a:xfrm>
              <a:off x="67680" y="2699640"/>
              <a:ext cx="1158480" cy="123444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" name="Group 8"/>
            <p:cNvGrpSpPr/>
            <p:nvPr/>
          </p:nvGrpSpPr>
          <p:grpSpPr>
            <a:xfrm>
              <a:off x="-189360" y="2438280"/>
              <a:ext cx="2926800" cy="3268440"/>
              <a:chOff x="-189360" y="2438280"/>
              <a:chExt cx="2926800" cy="3268440"/>
            </a:xfrm>
          </p:grpSpPr>
          <p:sp>
            <p:nvSpPr>
              <p:cNvPr id="8" name="AutoShape 9"/>
              <p:cNvSpPr/>
              <p:nvPr/>
            </p:nvSpPr>
            <p:spPr>
              <a:xfrm flipH="1" rot="780000">
                <a:off x="221400" y="2541960"/>
                <a:ext cx="1042200" cy="10490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AutoShape 10"/>
              <p:cNvSpPr/>
              <p:nvPr/>
            </p:nvSpPr>
            <p:spPr>
              <a:xfrm flipH="1" rot="780000">
                <a:off x="-80280" y="2692440"/>
                <a:ext cx="872280" cy="1067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AutoShape 11"/>
              <p:cNvSpPr/>
              <p:nvPr/>
            </p:nvSpPr>
            <p:spPr>
              <a:xfrm flipH="1" rot="780000">
                <a:off x="190080" y="2913120"/>
                <a:ext cx="307440" cy="539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AutoShape 12"/>
              <p:cNvSpPr/>
              <p:nvPr/>
            </p:nvSpPr>
            <p:spPr>
              <a:xfrm flipH="1" rot="780000">
                <a:off x="753840" y="3687480"/>
                <a:ext cx="282240" cy="3204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AutoShape 13"/>
              <p:cNvSpPr/>
              <p:nvPr/>
            </p:nvSpPr>
            <p:spPr>
              <a:xfrm flipH="1" rot="780000">
                <a:off x="673920" y="3744000"/>
                <a:ext cx="67680" cy="1893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" name="Group 14"/>
              <p:cNvGrpSpPr/>
              <p:nvPr/>
            </p:nvGrpSpPr>
            <p:grpSpPr>
              <a:xfrm>
                <a:off x="663480" y="3665160"/>
                <a:ext cx="2073960" cy="2041560"/>
                <a:chOff x="663480" y="3665160"/>
                <a:chExt cx="2073960" cy="2041560"/>
              </a:xfrm>
            </p:grpSpPr>
            <p:sp>
              <p:nvSpPr>
                <p:cNvPr id="14" name="AutoShape 15"/>
                <p:cNvSpPr/>
                <p:nvPr/>
              </p:nvSpPr>
              <p:spPr>
                <a:xfrm flipH="1" rot="7140000">
                  <a:off x="1108800" y="3572280"/>
                  <a:ext cx="594000" cy="136836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" name="AutoShape 16"/>
                <p:cNvSpPr/>
                <p:nvPr/>
              </p:nvSpPr>
              <p:spPr>
                <a:xfrm flipH="1" rot="7140000">
                  <a:off x="2332440" y="4819680"/>
                  <a:ext cx="135000" cy="5598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" name="AutoShape 17"/>
                <p:cNvSpPr/>
                <p:nvPr/>
              </p:nvSpPr>
              <p:spPr>
                <a:xfrm flipH="1" rot="7140000">
                  <a:off x="2511720" y="5528160"/>
                  <a:ext cx="248040" cy="94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8"/>
            <p:cNvGrpSpPr/>
            <p:nvPr/>
          </p:nvGrpSpPr>
          <p:grpSpPr>
            <a:xfrm>
              <a:off x="355680" y="6131880"/>
              <a:ext cx="878040" cy="695520"/>
              <a:chOff x="355680" y="6131880"/>
              <a:chExt cx="878040" cy="695520"/>
            </a:xfrm>
          </p:grpSpPr>
          <p:sp>
            <p:nvSpPr>
              <p:cNvPr id="18" name="AutoShape 19"/>
              <p:cNvSpPr/>
              <p:nvPr/>
            </p:nvSpPr>
            <p:spPr>
              <a:xfrm rot="6240000">
                <a:off x="963000" y="6129000"/>
                <a:ext cx="214920" cy="282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AutoShape 20"/>
              <p:cNvSpPr/>
              <p:nvPr/>
            </p:nvSpPr>
            <p:spPr>
              <a:xfrm rot="6240000">
                <a:off x="680760" y="6502320"/>
                <a:ext cx="368640" cy="234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AutoShape 21"/>
              <p:cNvSpPr/>
              <p:nvPr/>
            </p:nvSpPr>
            <p:spPr>
              <a:xfrm rot="6240000">
                <a:off x="266400" y="6391080"/>
                <a:ext cx="386280" cy="1180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2"/>
            <p:cNvGrpSpPr/>
            <p:nvPr/>
          </p:nvGrpSpPr>
          <p:grpSpPr>
            <a:xfrm>
              <a:off x="223920" y="1688040"/>
              <a:ext cx="842040" cy="734760"/>
              <a:chOff x="223920" y="1688040"/>
              <a:chExt cx="842040" cy="734760"/>
            </a:xfrm>
          </p:grpSpPr>
          <p:sp>
            <p:nvSpPr>
              <p:cNvPr id="22" name="AutoShape 23"/>
              <p:cNvSpPr/>
              <p:nvPr/>
            </p:nvSpPr>
            <p:spPr>
              <a:xfrm rot="4980000">
                <a:off x="785160" y="1655640"/>
                <a:ext cx="217440" cy="319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AutoShape 24"/>
              <p:cNvSpPr/>
              <p:nvPr/>
            </p:nvSpPr>
            <p:spPr>
              <a:xfrm rot="4980000">
                <a:off x="629640" y="2088360"/>
                <a:ext cx="374400" cy="264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AutoShape 25"/>
              <p:cNvSpPr/>
              <p:nvPr/>
            </p:nvSpPr>
            <p:spPr>
              <a:xfrm rot="4980000">
                <a:off x="118080" y="2142720"/>
                <a:ext cx="391320" cy="133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6"/>
            <p:cNvGrpSpPr/>
            <p:nvPr/>
          </p:nvGrpSpPr>
          <p:grpSpPr>
            <a:xfrm>
              <a:off x="1252440" y="-93600"/>
              <a:ext cx="559800" cy="586800"/>
              <a:chOff x="1252440" y="-93600"/>
              <a:chExt cx="559800" cy="586800"/>
            </a:xfrm>
          </p:grpSpPr>
          <p:sp>
            <p:nvSpPr>
              <p:cNvPr id="26" name="AutoShape 27"/>
              <p:cNvSpPr/>
              <p:nvPr/>
            </p:nvSpPr>
            <p:spPr>
              <a:xfrm>
                <a:off x="1252440" y="-93600"/>
                <a:ext cx="175680" cy="219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AutoShape 28"/>
              <p:cNvSpPr/>
              <p:nvPr/>
            </p:nvSpPr>
            <p:spPr>
              <a:xfrm>
                <a:off x="1509480" y="10800"/>
                <a:ext cx="30276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AutoShape 29"/>
              <p:cNvSpPr/>
              <p:nvPr/>
            </p:nvSpPr>
            <p:spPr>
              <a:xfrm>
                <a:off x="1447560" y="401400"/>
                <a:ext cx="315720" cy="9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" name="AutoShape 30"/>
            <p:cNvSpPr/>
            <p:nvPr/>
          </p:nvSpPr>
          <p:spPr>
            <a:xfrm>
              <a:off x="62640" y="57600"/>
              <a:ext cx="1140480" cy="121464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AutoShape 31"/>
            <p:cNvSpPr/>
            <p:nvPr/>
          </p:nvSpPr>
          <p:spPr>
            <a:xfrm rot="840000">
              <a:off x="317520" y="5383440"/>
              <a:ext cx="213840" cy="2667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AutoShape 32"/>
            <p:cNvSpPr/>
            <p:nvPr/>
          </p:nvSpPr>
          <p:spPr>
            <a:xfrm rot="840000">
              <a:off x="356400" y="5686200"/>
              <a:ext cx="106200" cy="67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AutoShape 33"/>
            <p:cNvSpPr/>
            <p:nvPr/>
          </p:nvSpPr>
          <p:spPr>
            <a:xfrm>
              <a:off x="-60840" y="6519960"/>
              <a:ext cx="190800" cy="334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AutoShape 34"/>
            <p:cNvSpPr/>
            <p:nvPr/>
          </p:nvSpPr>
          <p:spPr>
            <a:xfrm>
              <a:off x="-79200" y="6291360"/>
              <a:ext cx="210600" cy="204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AutoShape 35"/>
            <p:cNvSpPr/>
            <p:nvPr/>
          </p:nvSpPr>
          <p:spPr>
            <a:xfrm>
              <a:off x="-79200" y="6260760"/>
              <a:ext cx="74880" cy="136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AutoShape 36"/>
            <p:cNvSpPr/>
            <p:nvPr/>
          </p:nvSpPr>
          <p:spPr>
            <a:xfrm>
              <a:off x="-79200" y="5118480"/>
              <a:ext cx="810360" cy="1189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AutoShape 37"/>
            <p:cNvSpPr/>
            <p:nvPr/>
          </p:nvSpPr>
          <p:spPr>
            <a:xfrm rot="1560000">
              <a:off x="-46080" y="564480"/>
              <a:ext cx="560520" cy="392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AutoShape 38"/>
            <p:cNvSpPr/>
            <p:nvPr/>
          </p:nvSpPr>
          <p:spPr>
            <a:xfrm rot="1560000">
              <a:off x="315720" y="1121040"/>
              <a:ext cx="271080" cy="183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AutoShape 39"/>
            <p:cNvSpPr/>
            <p:nvPr/>
          </p:nvSpPr>
          <p:spPr>
            <a:xfrm rot="1560000">
              <a:off x="858240" y="366480"/>
              <a:ext cx="238680" cy="255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AutoShape 40"/>
            <p:cNvSpPr/>
            <p:nvPr/>
          </p:nvSpPr>
          <p:spPr>
            <a:xfrm rot="1560000">
              <a:off x="307800" y="1064520"/>
              <a:ext cx="9936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AutoShape 41"/>
            <p:cNvSpPr/>
            <p:nvPr/>
          </p:nvSpPr>
          <p:spPr>
            <a:xfrm rot="1560000">
              <a:off x="877680" y="654480"/>
              <a:ext cx="115920" cy="6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AutoShape 42"/>
            <p:cNvSpPr/>
            <p:nvPr/>
          </p:nvSpPr>
          <p:spPr>
            <a:xfrm>
              <a:off x="-79200" y="1332000"/>
              <a:ext cx="586440" cy="10443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AutoShape 43"/>
            <p:cNvSpPr/>
            <p:nvPr/>
          </p:nvSpPr>
          <p:spPr>
            <a:xfrm rot="1560000">
              <a:off x="11880" y="39240"/>
              <a:ext cx="1312200" cy="11023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Text Box 46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Text Box 4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1B8DD03-7113-43D4-B8CE-1746A0BB774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"/>
          <p:cNvGrpSpPr/>
          <p:nvPr/>
        </p:nvGrpSpPr>
        <p:grpSpPr>
          <a:xfrm>
            <a:off x="-39960" y="-342720"/>
            <a:ext cx="9405000" cy="7199280"/>
            <a:chOff x="-39960" y="-342720"/>
            <a:chExt cx="9405000" cy="7199280"/>
          </a:xfrm>
        </p:grpSpPr>
        <p:grpSp>
          <p:nvGrpSpPr>
            <p:cNvPr id="85" name="Group 2"/>
            <p:cNvGrpSpPr/>
            <p:nvPr/>
          </p:nvGrpSpPr>
          <p:grpSpPr>
            <a:xfrm>
              <a:off x="4835160" y="-342720"/>
              <a:ext cx="4529880" cy="6547320"/>
              <a:chOff x="4835160" y="-342720"/>
              <a:chExt cx="4529880" cy="6547320"/>
            </a:xfrm>
          </p:grpSpPr>
          <p:sp>
            <p:nvSpPr>
              <p:cNvPr id="86" name="AutoShape 3"/>
              <p:cNvSpPr/>
              <p:nvPr/>
            </p:nvSpPr>
            <p:spPr>
              <a:xfrm flipV="1" rot="12000000">
                <a:off x="6247800" y="57960"/>
                <a:ext cx="2778840" cy="2467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AutoShape 4"/>
              <p:cNvSpPr/>
              <p:nvPr/>
            </p:nvSpPr>
            <p:spPr>
              <a:xfrm flipV="1" rot="12000000">
                <a:off x="7349400" y="1747440"/>
                <a:ext cx="1189080" cy="881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AutoShape 5"/>
              <p:cNvSpPr/>
              <p:nvPr/>
            </p:nvSpPr>
            <p:spPr>
              <a:xfrm flipV="1" rot="12000000">
                <a:off x="6564600" y="2410200"/>
                <a:ext cx="575640" cy="4122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AutoShape 6"/>
              <p:cNvSpPr/>
              <p:nvPr/>
            </p:nvSpPr>
            <p:spPr>
              <a:xfrm flipV="1" rot="12000000">
                <a:off x="7126200" y="400320"/>
                <a:ext cx="509040" cy="574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AutoShape 7"/>
              <p:cNvSpPr/>
              <p:nvPr/>
            </p:nvSpPr>
            <p:spPr>
              <a:xfrm flipV="1" rot="12000000">
                <a:off x="6996960" y="2468160"/>
                <a:ext cx="212400" cy="3456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AutoShape 8"/>
              <p:cNvSpPr/>
              <p:nvPr/>
            </p:nvSpPr>
            <p:spPr>
              <a:xfrm flipV="1" rot="12000000">
                <a:off x="6976440" y="997920"/>
                <a:ext cx="247680" cy="1476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AutoShape 9"/>
              <p:cNvSpPr/>
              <p:nvPr/>
            </p:nvSpPr>
            <p:spPr>
              <a:xfrm flipV="1" rot="12000000">
                <a:off x="5398920" y="2768400"/>
                <a:ext cx="686520" cy="342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" name="AutoShape 10"/>
            <p:cNvSpPr/>
            <p:nvPr/>
          </p:nvSpPr>
          <p:spPr>
            <a:xfrm flipH="1" rot="360000">
              <a:off x="12240" y="3107880"/>
              <a:ext cx="511920" cy="10292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AutoShape 11"/>
            <p:cNvSpPr/>
            <p:nvPr/>
          </p:nvSpPr>
          <p:spPr>
            <a:xfrm>
              <a:off x="246600" y="2000160"/>
              <a:ext cx="2000880" cy="24307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AutoShape 12"/>
            <p:cNvSpPr/>
            <p:nvPr/>
          </p:nvSpPr>
          <p:spPr>
            <a:xfrm>
              <a:off x="-20520" y="4143240"/>
              <a:ext cx="1272600" cy="7272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AutoShape 13"/>
            <p:cNvSpPr/>
            <p:nvPr/>
          </p:nvSpPr>
          <p:spPr>
            <a:xfrm flipH="1" rot="360000">
              <a:off x="1406520" y="4533480"/>
              <a:ext cx="561240" cy="735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AutoShape 14"/>
            <p:cNvSpPr/>
            <p:nvPr/>
          </p:nvSpPr>
          <p:spPr>
            <a:xfrm flipH="1" rot="360000">
              <a:off x="1248120" y="4730400"/>
              <a:ext cx="136440" cy="43380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AutoShape 15"/>
            <p:cNvSpPr/>
            <p:nvPr/>
          </p:nvSpPr>
          <p:spPr>
            <a:xfrm>
              <a:off x="1872360" y="5195880"/>
              <a:ext cx="1760760" cy="1660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9" name="Group 16"/>
            <p:cNvGrpSpPr/>
            <p:nvPr/>
          </p:nvGrpSpPr>
          <p:grpSpPr>
            <a:xfrm>
              <a:off x="3997080" y="914760"/>
              <a:ext cx="1267200" cy="1388880"/>
              <a:chOff x="3997080" y="914760"/>
              <a:chExt cx="1267200" cy="1388880"/>
            </a:xfrm>
          </p:grpSpPr>
          <p:sp>
            <p:nvSpPr>
              <p:cNvPr id="100" name="AutoShape 17"/>
              <p:cNvSpPr/>
              <p:nvPr/>
            </p:nvSpPr>
            <p:spPr>
              <a:xfrm rot="3240000">
                <a:off x="4545000" y="933840"/>
                <a:ext cx="304200" cy="503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AutoShape 18"/>
              <p:cNvSpPr/>
              <p:nvPr/>
            </p:nvSpPr>
            <p:spPr>
              <a:xfrm rot="3240000">
                <a:off x="4682160" y="1512360"/>
                <a:ext cx="521280" cy="415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AutoShape 19"/>
              <p:cNvSpPr/>
              <p:nvPr/>
            </p:nvSpPr>
            <p:spPr>
              <a:xfrm rot="3240000">
                <a:off x="3970080" y="1915200"/>
                <a:ext cx="545040" cy="211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0"/>
            <p:cNvGrpSpPr/>
            <p:nvPr/>
          </p:nvGrpSpPr>
          <p:grpSpPr>
            <a:xfrm>
              <a:off x="5618520" y="275400"/>
              <a:ext cx="975600" cy="907920"/>
              <a:chOff x="5618520" y="275400"/>
              <a:chExt cx="975600" cy="907920"/>
            </a:xfrm>
          </p:grpSpPr>
          <p:sp>
            <p:nvSpPr>
              <p:cNvPr id="104" name="AutoShape 21"/>
              <p:cNvSpPr/>
              <p:nvPr/>
            </p:nvSpPr>
            <p:spPr>
              <a:xfrm rot="14880000">
                <a:off x="5739120" y="821880"/>
                <a:ext cx="196200" cy="3931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AutoShape 22"/>
              <p:cNvSpPr/>
              <p:nvPr/>
            </p:nvSpPr>
            <p:spPr>
              <a:xfrm rot="14880000">
                <a:off x="5685120" y="470520"/>
                <a:ext cx="336600" cy="325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AutoShape 23"/>
              <p:cNvSpPr/>
              <p:nvPr/>
            </p:nvSpPr>
            <p:spPr>
              <a:xfrm rot="14880000">
                <a:off x="6276960" y="385920"/>
                <a:ext cx="350280" cy="164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4"/>
            <p:cNvGrpSpPr/>
            <p:nvPr/>
          </p:nvGrpSpPr>
          <p:grpSpPr>
            <a:xfrm>
              <a:off x="946080" y="5131080"/>
              <a:ext cx="1161360" cy="1059480"/>
              <a:chOff x="946080" y="5131080"/>
              <a:chExt cx="1161360" cy="1059480"/>
            </a:xfrm>
          </p:grpSpPr>
          <p:sp>
            <p:nvSpPr>
              <p:cNvPr id="108" name="AutoShape 25"/>
              <p:cNvSpPr/>
              <p:nvPr/>
            </p:nvSpPr>
            <p:spPr>
              <a:xfrm rot="8520000">
                <a:off x="1744200" y="5456520"/>
                <a:ext cx="264240" cy="4118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AutoShape 26"/>
              <p:cNvSpPr/>
              <p:nvPr/>
            </p:nvSpPr>
            <p:spPr>
              <a:xfrm rot="8520000">
                <a:off x="1197000" y="5745240"/>
                <a:ext cx="454320" cy="341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AutoShape 27"/>
              <p:cNvSpPr/>
              <p:nvPr/>
            </p:nvSpPr>
            <p:spPr>
              <a:xfrm rot="8520000">
                <a:off x="948960" y="5258880"/>
                <a:ext cx="474840" cy="173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8"/>
            <p:cNvGrpSpPr/>
            <p:nvPr/>
          </p:nvGrpSpPr>
          <p:grpSpPr>
            <a:xfrm>
              <a:off x="237600" y="376920"/>
              <a:ext cx="1861920" cy="1271880"/>
              <a:chOff x="237600" y="376920"/>
              <a:chExt cx="1861920" cy="1271880"/>
            </a:xfrm>
          </p:grpSpPr>
          <p:sp>
            <p:nvSpPr>
              <p:cNvPr id="112" name="AutoShape 29"/>
              <p:cNvSpPr/>
              <p:nvPr/>
            </p:nvSpPr>
            <p:spPr>
              <a:xfrm flipH="1" rot="4140000">
                <a:off x="1557720" y="1067040"/>
                <a:ext cx="395280" cy="584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AutoShape 30"/>
              <p:cNvSpPr/>
              <p:nvPr/>
            </p:nvSpPr>
            <p:spPr>
              <a:xfrm flipH="1" rot="4140000">
                <a:off x="946440" y="536760"/>
                <a:ext cx="677520" cy="4863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AutoShape 31"/>
              <p:cNvSpPr/>
              <p:nvPr/>
            </p:nvSpPr>
            <p:spPr>
              <a:xfrm flipH="1" rot="4140000">
                <a:off x="124560" y="1107000"/>
                <a:ext cx="709560" cy="2458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2"/>
            <p:cNvGrpSpPr/>
            <p:nvPr/>
          </p:nvGrpSpPr>
          <p:grpSpPr>
            <a:xfrm>
              <a:off x="7322040" y="3637080"/>
              <a:ext cx="1258920" cy="1716840"/>
              <a:chOff x="7322040" y="3637080"/>
              <a:chExt cx="1258920" cy="1716840"/>
            </a:xfrm>
          </p:grpSpPr>
          <p:sp>
            <p:nvSpPr>
              <p:cNvPr id="116" name="AutoShape 33"/>
              <p:cNvSpPr/>
              <p:nvPr/>
            </p:nvSpPr>
            <p:spPr>
              <a:xfrm flipH="1" rot="10020000">
                <a:off x="7380720" y="4751640"/>
                <a:ext cx="385920" cy="565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AutoShape 34"/>
              <p:cNvSpPr/>
              <p:nvPr/>
            </p:nvSpPr>
            <p:spPr>
              <a:xfrm flipH="1" rot="10020000">
                <a:off x="7874280" y="4430520"/>
                <a:ext cx="662040" cy="470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AutoShape 35"/>
              <p:cNvSpPr/>
              <p:nvPr/>
            </p:nvSpPr>
            <p:spPr>
              <a:xfrm flipH="1" rot="10020000">
                <a:off x="7537320" y="3711600"/>
                <a:ext cx="691920" cy="237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9" name="AutoShape 36"/>
            <p:cNvSpPr/>
            <p:nvPr/>
          </p:nvSpPr>
          <p:spPr>
            <a:xfrm>
              <a:off x="1915560" y="3240"/>
              <a:ext cx="1369080" cy="14047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AutoShape 37"/>
            <p:cNvSpPr/>
            <p:nvPr/>
          </p:nvSpPr>
          <p:spPr>
            <a:xfrm flipV="1" rot="9840000">
              <a:off x="3413520" y="164160"/>
              <a:ext cx="1081440" cy="9396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AutoShape 38"/>
            <p:cNvSpPr/>
            <p:nvPr/>
          </p:nvSpPr>
          <p:spPr>
            <a:xfrm flipV="1" rot="9840000">
              <a:off x="3156120" y="1362240"/>
              <a:ext cx="523440" cy="4392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AutoShape 39"/>
            <p:cNvSpPr/>
            <p:nvPr/>
          </p:nvSpPr>
          <p:spPr>
            <a:xfrm flipV="1" rot="9840000">
              <a:off x="3518640" y="1285200"/>
              <a:ext cx="194040" cy="3682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AutoShape 40"/>
            <p:cNvSpPr/>
            <p:nvPr/>
          </p:nvSpPr>
          <p:spPr>
            <a:xfrm>
              <a:off x="2529360" y="0"/>
              <a:ext cx="195480" cy="19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AutoShape 41"/>
            <p:cNvSpPr/>
            <p:nvPr/>
          </p:nvSpPr>
          <p:spPr>
            <a:xfrm flipV="1" rot="9840000">
              <a:off x="3436920" y="1964880"/>
              <a:ext cx="623160" cy="36496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AutoShape 42"/>
            <p:cNvSpPr/>
            <p:nvPr/>
          </p:nvSpPr>
          <p:spPr>
            <a:xfrm>
              <a:off x="-20520" y="2933640"/>
              <a:ext cx="55440" cy="2080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-485640"/>
            <a:ext cx="8242560" cy="19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 Box 4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9C4A4A-ACE1-4C00-B028-92E423566985}" type="slidenum">
              <a:rPr b="0" lang="ru-RU" sz="1400" spc="-1" strike="noStrike">
                <a:solidFill>
                  <a:srgbClr val="006699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42960" y="1500120"/>
            <a:ext cx="79297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Monotype Corsiva"/>
              </a:rPr>
              <a:t>Презентация к празднику «День смеха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2071800" y="3054240"/>
            <a:ext cx="4286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Monotype Corsiva"/>
              </a:rPr>
              <a:t>Приложение</a:t>
            </a: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№1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660920" cy="4822560"/>
          </a:xfrm>
          <a:prstGeom prst="rect">
            <a:avLst/>
          </a:prstGeom>
          <a:ln w="0">
            <a:noFill/>
          </a:ln>
        </p:spPr>
      </p:pic>
      <p:sp>
        <p:nvSpPr>
          <p:cNvPr id="170" name="WordArt 2"/>
          <p:cNvSpPr txBox="1"/>
          <p:nvPr/>
        </p:nvSpPr>
        <p:spPr>
          <a:xfrm>
            <a:off x="1258920" y="4797360"/>
            <a:ext cx="619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35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 1 апреля 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640720" cy="6048360"/>
          </a:xfrm>
          <a:prstGeom prst="rect">
            <a:avLst/>
          </a:prstGeom>
          <a:ln w="0">
            <a:noFill/>
          </a:ln>
        </p:spPr>
      </p:pic>
      <p:sp>
        <p:nvSpPr>
          <p:cNvPr id="172" name="WordArt 2"/>
          <p:cNvSpPr txBox="1"/>
          <p:nvPr/>
        </p:nvSpPr>
        <p:spPr>
          <a:xfrm>
            <a:off x="3924360" y="0"/>
            <a:ext cx="475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000000">
                      <a:alpha val="80000"/>
                    </a:srgbClr>
                  </a:outerShdw>
                </a:effectLst>
                <a:latin typeface="Arial"/>
              </a:rPr>
              <a:t>Ольхов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00000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352000" cy="4761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"/>
          <p:cNvSpPr/>
          <p:nvPr/>
        </p:nvSpPr>
        <p:spPr>
          <a:xfrm>
            <a:off x="3132000" y="3645000"/>
            <a:ext cx="1940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рямо пойдешь сплошные таланты, певцы да музыкант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258920" y="3860640"/>
            <a:ext cx="1730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лево пойдешь – танцора найдеш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508720" y="3860640"/>
            <a:ext cx="17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аправо пойдешь – поэта найдеш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2340000" y="5734080"/>
            <a:ext cx="3313080" cy="792000"/>
          </a:xfrm>
          <a:prstGeom prst="pie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1"/>
          <p:cNvSpPr txBox="1"/>
          <p:nvPr/>
        </p:nvSpPr>
        <p:spPr>
          <a:xfrm>
            <a:off x="2050920" y="260280"/>
            <a:ext cx="5073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Ольховка - Владим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434000" cy="48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785880" y="500040"/>
            <a:ext cx="6119640" cy="5113440"/>
          </a:xfrm>
          <a:prstGeom prst="irregularSeal1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WordArt 2"/>
          <p:cNvSpPr txBox="1"/>
          <p:nvPr/>
        </p:nvSpPr>
        <p:spPr>
          <a:xfrm>
            <a:off x="428760" y="714240"/>
            <a:ext cx="5521320" cy="12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цуй деревня 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7885080" y="692280"/>
            <a:ext cx="934920" cy="1152360"/>
          </a:xfrm>
          <a:custGeom>
            <a:avLst/>
            <a:gdLst>
              <a:gd name="textAreaLeft" fmla="*/ 385200 w 934920"/>
              <a:gd name="textAreaRight" fmla="*/ 549720 w 934920"/>
              <a:gd name="textAreaTop" fmla="*/ 474840 h 1152360"/>
              <a:gd name="textAreaBottom" fmla="*/ 677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26920" y="5445000"/>
            <a:ext cx="1224000" cy="1008360"/>
          </a:xfrm>
          <a:custGeom>
            <a:avLst/>
            <a:gdLst>
              <a:gd name="textAreaLeft" fmla="*/ 504360 w 1224000"/>
              <a:gd name="textAreaRight" fmla="*/ 719640 w 1224000"/>
              <a:gd name="textAreaTop" fmla="*/ 415440 h 1008360"/>
              <a:gd name="textAreaBottom" fmla="*/ 59292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2dffd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2195640" y="333360"/>
            <a:ext cx="649080" cy="792000"/>
          </a:xfrm>
          <a:prstGeom prst="pie">
            <a:avLst/>
          </a:prstGeom>
          <a:solidFill>
            <a:srgbClr val="ff0d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6372360" y="5805360"/>
            <a:ext cx="865080" cy="79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7956720" y="2781360"/>
            <a:ext cx="718920" cy="792000"/>
          </a:xfrm>
          <a:prstGeom prst="pie">
            <a:avLst/>
          </a:prstGeom>
          <a:solidFill>
            <a:srgbClr val="33cc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WordArt 8"/>
          <p:cNvSpPr txBox="1"/>
          <p:nvPr/>
        </p:nvSpPr>
        <p:spPr>
          <a:xfrm>
            <a:off x="3714840" y="2286000"/>
            <a:ext cx="460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аз моделе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9"/>
          <p:cNvSpPr txBox="1"/>
          <p:nvPr/>
        </p:nvSpPr>
        <p:spPr>
          <a:xfrm>
            <a:off x="285840" y="3714840"/>
            <a:ext cx="4465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курсы!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10"/>
          <p:cNvSpPr txBox="1"/>
          <p:nvPr/>
        </p:nvSpPr>
        <p:spPr>
          <a:xfrm>
            <a:off x="4929120" y="5000760"/>
            <a:ext cx="360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ушки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0" name="Picture 11" descr=""/>
          <p:cNvPicPr/>
          <p:nvPr/>
        </p:nvPicPr>
        <p:blipFill>
          <a:blip r:embed="rId1"/>
          <a:stretch/>
        </p:blipFill>
        <p:spPr>
          <a:xfrm>
            <a:off x="928800" y="2214720"/>
            <a:ext cx="140976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1"/>
          <p:cNvSpPr/>
          <p:nvPr/>
        </p:nvSpPr>
        <p:spPr>
          <a:xfrm rot="1620000">
            <a:off x="2124000" y="906480"/>
            <a:ext cx="4824360" cy="4176720"/>
          </a:xfrm>
          <a:prstGeom prst="irregularSeal2">
            <a:avLst/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WordArt 2"/>
          <p:cNvSpPr txBox="1"/>
          <p:nvPr/>
        </p:nvSpPr>
        <p:spPr>
          <a:xfrm>
            <a:off x="2268360" y="1557360"/>
            <a:ext cx="43624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ан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Красная шапочка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6300720" y="3573360"/>
            <a:ext cx="2217960" cy="292428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4"/>
          <p:cNvSpPr/>
          <p:nvPr/>
        </p:nvSpPr>
        <p:spPr>
          <a:xfrm>
            <a:off x="1908000" y="5229360"/>
            <a:ext cx="1440000" cy="1152360"/>
          </a:xfrm>
          <a:prstGeom prst="pie">
            <a:avLst/>
          </a:prstGeom>
          <a:solidFill>
            <a:srgbClr val="ffff00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6659640" y="620640"/>
            <a:ext cx="1439640" cy="1152720"/>
          </a:xfrm>
          <a:prstGeom prst="pie">
            <a:avLst/>
          </a:prstGeom>
          <a:solidFill>
            <a:srgbClr val="00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619280" y="476280"/>
            <a:ext cx="1008000" cy="1081080"/>
          </a:xfrm>
          <a:custGeom>
            <a:avLst/>
            <a:gdLst>
              <a:gd name="textAreaLeft" fmla="*/ 415440 w 1008000"/>
              <a:gd name="textAreaRight" fmla="*/ 592560 w 1008000"/>
              <a:gd name="textAreaTop" fmla="*/ 445320 h 1081080"/>
              <a:gd name="textAreaBottom" fmla="*/ 63576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398600" y="255600"/>
            <a:ext cx="6348240" cy="63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02:09Z</dcterms:created>
  <dc:creator>User</dc:creator>
  <dc:description/>
  <dc:language>en-US</dc:language>
  <cp:lastModifiedBy>User</cp:lastModifiedBy>
  <dcterms:modified xsi:type="dcterms:W3CDTF">2012-09-12T21:28:31Z</dcterms:modified>
  <cp:revision>9</cp:revision>
  <dc:subject/>
  <dc:title>Слайд 1</dc:title>
</cp:coreProperties>
</file>