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1485-D950-4DD9-B40F-96B7843F3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14E2-7950-4358-B729-21DBFD5688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756D4-5CE8-4C75-B86C-F27186C0C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7FEF-0E7C-4E5B-AA1F-7F76DEF7ED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FFF73-040E-4050-B6BA-93C7F5A10A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29311-B3BB-4FDB-9CA1-A89BDB3042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A189-F3BB-48F6-90B8-D1EFE8CBC1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3418-1D7F-4C47-887C-7386A3FDC8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8E967-C660-4922-B3CA-C99748F144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29B6-F2BE-4DDD-9680-62E51EB37D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067D6-C5D0-4710-83D9-B24C25FC1F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9D82-4A41-4711-A938-C00D7BFCF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1C41-C2A5-4531-8F78-6BF699CAC0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40748-E14F-401A-9F22-3FF75A261B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899C-54C1-4FF1-85FD-30C488DC1D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8E8A-07A1-4510-8DC6-B1C4BADFF7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40338-24A8-4B6B-B813-ABC130D6D4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8BFF-A84C-49C2-BF64-83B7C9A8F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37AB-D543-420D-9949-F7AD9E894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FA3B-0A22-4388-B256-4112DA7AD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C570-B0C7-402E-9BD6-0F311CEFF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424B-A9FE-49E0-9FF0-C5A5F42AF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45A7-D51F-4F23-887E-4952DAB34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0A94-A895-4835-9EF0-F2A3155E2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189360" y="-192240"/>
            <a:ext cx="2926800" cy="7046640"/>
            <a:chOff x="-189360" y="-192240"/>
            <a:chExt cx="2926800" cy="7046640"/>
          </a:xfrm>
        </p:grpSpPr>
        <p:sp>
          <p:nvSpPr>
            <p:cNvPr id="1" name="AutoShape 2"/>
            <p:cNvSpPr/>
            <p:nvPr/>
          </p:nvSpPr>
          <p:spPr>
            <a:xfrm>
              <a:off x="-87480" y="5155560"/>
              <a:ext cx="769680" cy="128880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" name="AutoShape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" name="AutoShape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" name="AutoShape 7"/>
            <p:cNvSpPr/>
            <p:nvPr/>
          </p:nvSpPr>
          <p:spPr>
            <a:xfrm>
              <a:off x="67680" y="2699640"/>
              <a:ext cx="1158480" cy="123444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" name="Group 8"/>
            <p:cNvGrpSpPr/>
            <p:nvPr/>
          </p:nvGrpSpPr>
          <p:grpSpPr>
            <a:xfrm>
              <a:off x="-189360" y="2438280"/>
              <a:ext cx="2926800" cy="3268440"/>
              <a:chOff x="-189360" y="2438280"/>
              <a:chExt cx="2926800" cy="3268440"/>
            </a:xfrm>
          </p:grpSpPr>
          <p:sp>
            <p:nvSpPr>
              <p:cNvPr id="8" name="AutoShape 9"/>
              <p:cNvSpPr/>
              <p:nvPr/>
            </p:nvSpPr>
            <p:spPr>
              <a:xfrm flipH="1" rot="780000">
                <a:off x="221400" y="2541960"/>
                <a:ext cx="1042200" cy="10490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 flipH="1" rot="780000">
                <a:off x="-80280" y="2692440"/>
                <a:ext cx="872280" cy="10674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 flipH="1" rot="780000">
                <a:off x="190080" y="2913120"/>
                <a:ext cx="307440" cy="539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 flipH="1" rot="780000">
                <a:off x="753840" y="3687480"/>
                <a:ext cx="282240" cy="3204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AutoShape 13"/>
              <p:cNvSpPr/>
              <p:nvPr/>
            </p:nvSpPr>
            <p:spPr>
              <a:xfrm flipH="1" rot="780000">
                <a:off x="673920" y="3744000"/>
                <a:ext cx="67680" cy="1893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3" name="Group 14"/>
              <p:cNvGrpSpPr/>
              <p:nvPr/>
            </p:nvGrpSpPr>
            <p:grpSpPr>
              <a:xfrm>
                <a:off x="663480" y="3665160"/>
                <a:ext cx="2073960" cy="2041560"/>
                <a:chOff x="663480" y="3665160"/>
                <a:chExt cx="2073960" cy="2041560"/>
              </a:xfrm>
            </p:grpSpPr>
            <p:sp>
              <p:nvSpPr>
                <p:cNvPr id="14" name="AutoShape 15"/>
                <p:cNvSpPr/>
                <p:nvPr/>
              </p:nvSpPr>
              <p:spPr>
                <a:xfrm flipH="1" rot="7140000">
                  <a:off x="1108800" y="3572280"/>
                  <a:ext cx="594000" cy="1368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" name="AutoShape 16"/>
                <p:cNvSpPr/>
                <p:nvPr/>
              </p:nvSpPr>
              <p:spPr>
                <a:xfrm flipH="1" rot="7140000">
                  <a:off x="2332440" y="4819680"/>
                  <a:ext cx="135000" cy="5598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" name="AutoShape 17"/>
                <p:cNvSpPr/>
                <p:nvPr/>
              </p:nvSpPr>
              <p:spPr>
                <a:xfrm flipH="1" rot="7140000">
                  <a:off x="2511720" y="5528160"/>
                  <a:ext cx="248040" cy="94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8"/>
            <p:cNvGrpSpPr/>
            <p:nvPr/>
          </p:nvGrpSpPr>
          <p:grpSpPr>
            <a:xfrm>
              <a:off x="355680" y="6131880"/>
              <a:ext cx="878040" cy="695520"/>
              <a:chOff x="355680" y="6131880"/>
              <a:chExt cx="878040" cy="695520"/>
            </a:xfrm>
          </p:grpSpPr>
          <p:sp>
            <p:nvSpPr>
              <p:cNvPr id="18" name="AutoShape 19"/>
              <p:cNvSpPr/>
              <p:nvPr/>
            </p:nvSpPr>
            <p:spPr>
              <a:xfrm rot="6240000">
                <a:off x="963000" y="6129000"/>
                <a:ext cx="214920" cy="282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AutoShape 20"/>
              <p:cNvSpPr/>
              <p:nvPr/>
            </p:nvSpPr>
            <p:spPr>
              <a:xfrm rot="6240000">
                <a:off x="680760" y="6502320"/>
                <a:ext cx="368640" cy="234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AutoShape 21"/>
              <p:cNvSpPr/>
              <p:nvPr/>
            </p:nvSpPr>
            <p:spPr>
              <a:xfrm rot="6240000">
                <a:off x="266400" y="6391080"/>
                <a:ext cx="386280" cy="118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2" name="AutoShape 23"/>
              <p:cNvSpPr/>
              <p:nvPr/>
            </p:nvSpPr>
            <p:spPr>
              <a:xfrm rot="4980000">
                <a:off x="785160" y="1655640"/>
                <a:ext cx="217440" cy="319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AutoShape 24"/>
              <p:cNvSpPr/>
              <p:nvPr/>
            </p:nvSpPr>
            <p:spPr>
              <a:xfrm rot="4980000">
                <a:off x="629640" y="2088360"/>
                <a:ext cx="374400" cy="264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AutoShape 25"/>
              <p:cNvSpPr/>
              <p:nvPr/>
            </p:nvSpPr>
            <p:spPr>
              <a:xfrm rot="4980000">
                <a:off x="118080" y="2142720"/>
                <a:ext cx="391320" cy="133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6" name="AutoShape 27"/>
              <p:cNvSpPr/>
              <p:nvPr/>
            </p:nvSpPr>
            <p:spPr>
              <a:xfrm>
                <a:off x="1252440" y="-93600"/>
                <a:ext cx="175680" cy="219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AutoShape 28"/>
              <p:cNvSpPr/>
              <p:nvPr/>
            </p:nvSpPr>
            <p:spPr>
              <a:xfrm>
                <a:off x="1509480" y="10800"/>
                <a:ext cx="30276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AutoShape 29"/>
              <p:cNvSpPr/>
              <p:nvPr/>
            </p:nvSpPr>
            <p:spPr>
              <a:xfrm>
                <a:off x="1447560" y="401400"/>
                <a:ext cx="315720" cy="9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" name="AutoShape 30"/>
            <p:cNvSpPr/>
            <p:nvPr/>
          </p:nvSpPr>
          <p:spPr>
            <a:xfrm>
              <a:off x="62640" y="57600"/>
              <a:ext cx="1140480" cy="121464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" name="AutoShape 31"/>
            <p:cNvSpPr/>
            <p:nvPr/>
          </p:nvSpPr>
          <p:spPr>
            <a:xfrm rot="840000">
              <a:off x="317520" y="5383440"/>
              <a:ext cx="213840" cy="2667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" name="AutoShape 32"/>
            <p:cNvSpPr/>
            <p:nvPr/>
          </p:nvSpPr>
          <p:spPr>
            <a:xfrm rot="840000">
              <a:off x="356400" y="5686200"/>
              <a:ext cx="106200" cy="67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-60840" y="6519960"/>
              <a:ext cx="190800" cy="334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" name="AutoShape 34"/>
            <p:cNvSpPr/>
            <p:nvPr/>
          </p:nvSpPr>
          <p:spPr>
            <a:xfrm>
              <a:off x="-79200" y="6291360"/>
              <a:ext cx="210600" cy="204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" name="AutoShape 35"/>
            <p:cNvSpPr/>
            <p:nvPr/>
          </p:nvSpPr>
          <p:spPr>
            <a:xfrm>
              <a:off x="-79200" y="6260760"/>
              <a:ext cx="74880" cy="1368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" name="AutoShape 36"/>
            <p:cNvSpPr/>
            <p:nvPr/>
          </p:nvSpPr>
          <p:spPr>
            <a:xfrm>
              <a:off x="-79200" y="5118480"/>
              <a:ext cx="810360" cy="11890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AutoShape 37"/>
            <p:cNvSpPr/>
            <p:nvPr/>
          </p:nvSpPr>
          <p:spPr>
            <a:xfrm rot="1560000">
              <a:off x="-46080" y="564480"/>
              <a:ext cx="560520" cy="392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 rot="1560000">
              <a:off x="315720" y="1121040"/>
              <a:ext cx="271080" cy="183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AutoShape 39"/>
            <p:cNvSpPr/>
            <p:nvPr/>
          </p:nvSpPr>
          <p:spPr>
            <a:xfrm rot="1560000">
              <a:off x="858240" y="366480"/>
              <a:ext cx="238680" cy="2556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AutoShape 40"/>
            <p:cNvSpPr/>
            <p:nvPr/>
          </p:nvSpPr>
          <p:spPr>
            <a:xfrm rot="1560000">
              <a:off x="307800" y="1064520"/>
              <a:ext cx="9936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AutoShape 41"/>
            <p:cNvSpPr/>
            <p:nvPr/>
          </p:nvSpPr>
          <p:spPr>
            <a:xfrm rot="1560000">
              <a:off x="877680" y="654480"/>
              <a:ext cx="115920" cy="6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AutoShape 42"/>
            <p:cNvSpPr/>
            <p:nvPr/>
          </p:nvSpPr>
          <p:spPr>
            <a:xfrm>
              <a:off x="-79200" y="1332000"/>
              <a:ext cx="586440" cy="10443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AutoShape 43"/>
            <p:cNvSpPr/>
            <p:nvPr/>
          </p:nvSpPr>
          <p:spPr>
            <a:xfrm rot="1560000">
              <a:off x="11880" y="39240"/>
              <a:ext cx="1312200" cy="11023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8D6489-A03F-4F0D-88FE-27C872B819B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39960" y="-342720"/>
            <a:ext cx="9405000" cy="7199280"/>
            <a:chOff x="-39960" y="-342720"/>
            <a:chExt cx="9405000" cy="7199280"/>
          </a:xfrm>
        </p:grpSpPr>
        <p:grpSp>
          <p:nvGrpSpPr>
            <p:cNvPr id="85" name="Group 2"/>
            <p:cNvGrpSpPr/>
            <p:nvPr/>
          </p:nvGrpSpPr>
          <p:grpSpPr>
            <a:xfrm>
              <a:off x="4835160" y="-342720"/>
              <a:ext cx="4529880" cy="6547320"/>
              <a:chOff x="4835160" y="-342720"/>
              <a:chExt cx="4529880" cy="6547320"/>
            </a:xfrm>
          </p:grpSpPr>
          <p:sp>
            <p:nvSpPr>
              <p:cNvPr id="86" name="AutoShape 3"/>
              <p:cNvSpPr/>
              <p:nvPr/>
            </p:nvSpPr>
            <p:spPr>
              <a:xfrm flipV="1" rot="12000000">
                <a:off x="6247800" y="57960"/>
                <a:ext cx="2778840" cy="2467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AutoShape 4"/>
              <p:cNvSpPr/>
              <p:nvPr/>
            </p:nvSpPr>
            <p:spPr>
              <a:xfrm flipV="1" rot="12000000">
                <a:off x="7349400" y="1747440"/>
                <a:ext cx="1189080" cy="881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AutoShape 5"/>
              <p:cNvSpPr/>
              <p:nvPr/>
            </p:nvSpPr>
            <p:spPr>
              <a:xfrm flipV="1" rot="12000000">
                <a:off x="6564600" y="2410200"/>
                <a:ext cx="575640" cy="4122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AutoShape 6"/>
              <p:cNvSpPr/>
              <p:nvPr/>
            </p:nvSpPr>
            <p:spPr>
              <a:xfrm flipV="1" rot="12000000">
                <a:off x="7126200" y="400320"/>
                <a:ext cx="509040" cy="574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AutoShape 7"/>
              <p:cNvSpPr/>
              <p:nvPr/>
            </p:nvSpPr>
            <p:spPr>
              <a:xfrm flipV="1" rot="12000000">
                <a:off x="6996960" y="2468160"/>
                <a:ext cx="212400" cy="3456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AutoShape 8"/>
              <p:cNvSpPr/>
              <p:nvPr/>
            </p:nvSpPr>
            <p:spPr>
              <a:xfrm flipV="1" rot="12000000">
                <a:off x="6976440" y="997920"/>
                <a:ext cx="247680" cy="1476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AutoShape 9"/>
              <p:cNvSpPr/>
              <p:nvPr/>
            </p:nvSpPr>
            <p:spPr>
              <a:xfrm flipV="1" rot="12000000">
                <a:off x="5398920" y="2768400"/>
                <a:ext cx="686520" cy="342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3" name="AutoShape 10"/>
            <p:cNvSpPr/>
            <p:nvPr/>
          </p:nvSpPr>
          <p:spPr>
            <a:xfrm flipH="1" rot="360000">
              <a:off x="12240" y="3107880"/>
              <a:ext cx="511920" cy="10292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AutoShape 11"/>
            <p:cNvSpPr/>
            <p:nvPr/>
          </p:nvSpPr>
          <p:spPr>
            <a:xfrm>
              <a:off x="246600" y="2000160"/>
              <a:ext cx="2000880" cy="24307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AutoShape 12"/>
            <p:cNvSpPr/>
            <p:nvPr/>
          </p:nvSpPr>
          <p:spPr>
            <a:xfrm>
              <a:off x="-20520" y="4143240"/>
              <a:ext cx="1272600" cy="7272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AutoShape 13"/>
            <p:cNvSpPr/>
            <p:nvPr/>
          </p:nvSpPr>
          <p:spPr>
            <a:xfrm flipH="1" rot="360000">
              <a:off x="1406520" y="4533480"/>
              <a:ext cx="561240" cy="735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 flipH="1" rot="360000">
              <a:off x="1248120" y="4730400"/>
              <a:ext cx="136440" cy="4338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AutoShape 15"/>
            <p:cNvSpPr/>
            <p:nvPr/>
          </p:nvSpPr>
          <p:spPr>
            <a:xfrm>
              <a:off x="1872360" y="5195880"/>
              <a:ext cx="1760760" cy="1660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9" name="Group 16"/>
            <p:cNvGrpSpPr/>
            <p:nvPr/>
          </p:nvGrpSpPr>
          <p:grpSpPr>
            <a:xfrm>
              <a:off x="3997080" y="914760"/>
              <a:ext cx="1267200" cy="1388880"/>
              <a:chOff x="3997080" y="914760"/>
              <a:chExt cx="1267200" cy="1388880"/>
            </a:xfrm>
          </p:grpSpPr>
          <p:sp>
            <p:nvSpPr>
              <p:cNvPr id="100" name="AutoShape 17"/>
              <p:cNvSpPr/>
              <p:nvPr/>
            </p:nvSpPr>
            <p:spPr>
              <a:xfrm rot="3240000">
                <a:off x="4545000" y="933840"/>
                <a:ext cx="304200" cy="503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AutoShape 18"/>
              <p:cNvSpPr/>
              <p:nvPr/>
            </p:nvSpPr>
            <p:spPr>
              <a:xfrm rot="3240000">
                <a:off x="4682160" y="1512360"/>
                <a:ext cx="521280" cy="415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AutoShape 19"/>
              <p:cNvSpPr/>
              <p:nvPr/>
            </p:nvSpPr>
            <p:spPr>
              <a:xfrm rot="3240000">
                <a:off x="3970080" y="1915200"/>
                <a:ext cx="545040" cy="211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0"/>
            <p:cNvGrpSpPr/>
            <p:nvPr/>
          </p:nvGrpSpPr>
          <p:grpSpPr>
            <a:xfrm>
              <a:off x="5618520" y="275400"/>
              <a:ext cx="975600" cy="907920"/>
              <a:chOff x="5618520" y="275400"/>
              <a:chExt cx="975600" cy="907920"/>
            </a:xfrm>
          </p:grpSpPr>
          <p:sp>
            <p:nvSpPr>
              <p:cNvPr id="104" name="AutoShape 21"/>
              <p:cNvSpPr/>
              <p:nvPr/>
            </p:nvSpPr>
            <p:spPr>
              <a:xfrm rot="14880000">
                <a:off x="5739120" y="821880"/>
                <a:ext cx="196200" cy="393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AutoShape 22"/>
              <p:cNvSpPr/>
              <p:nvPr/>
            </p:nvSpPr>
            <p:spPr>
              <a:xfrm rot="14880000">
                <a:off x="5685120" y="470520"/>
                <a:ext cx="336600" cy="325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AutoShape 23"/>
              <p:cNvSpPr/>
              <p:nvPr/>
            </p:nvSpPr>
            <p:spPr>
              <a:xfrm rot="14880000">
                <a:off x="6276960" y="385920"/>
                <a:ext cx="350280" cy="164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4"/>
            <p:cNvGrpSpPr/>
            <p:nvPr/>
          </p:nvGrpSpPr>
          <p:grpSpPr>
            <a:xfrm>
              <a:off x="946080" y="5131080"/>
              <a:ext cx="1161360" cy="1059480"/>
              <a:chOff x="946080" y="5131080"/>
              <a:chExt cx="1161360" cy="1059480"/>
            </a:xfrm>
          </p:grpSpPr>
          <p:sp>
            <p:nvSpPr>
              <p:cNvPr id="108" name="AutoShape 25"/>
              <p:cNvSpPr/>
              <p:nvPr/>
            </p:nvSpPr>
            <p:spPr>
              <a:xfrm rot="8520000">
                <a:off x="1744200" y="5456520"/>
                <a:ext cx="264240" cy="411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AutoShape 26"/>
              <p:cNvSpPr/>
              <p:nvPr/>
            </p:nvSpPr>
            <p:spPr>
              <a:xfrm rot="8520000">
                <a:off x="1197000" y="5745240"/>
                <a:ext cx="454320" cy="341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AutoShape 27"/>
              <p:cNvSpPr/>
              <p:nvPr/>
            </p:nvSpPr>
            <p:spPr>
              <a:xfrm rot="8520000">
                <a:off x="948960" y="5258880"/>
                <a:ext cx="474840" cy="173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8"/>
            <p:cNvGrpSpPr/>
            <p:nvPr/>
          </p:nvGrpSpPr>
          <p:grpSpPr>
            <a:xfrm>
              <a:off x="237600" y="376920"/>
              <a:ext cx="1861920" cy="1271880"/>
              <a:chOff x="237600" y="376920"/>
              <a:chExt cx="1861920" cy="1271880"/>
            </a:xfrm>
          </p:grpSpPr>
          <p:sp>
            <p:nvSpPr>
              <p:cNvPr id="112" name="AutoShape 29"/>
              <p:cNvSpPr/>
              <p:nvPr/>
            </p:nvSpPr>
            <p:spPr>
              <a:xfrm flipH="1" rot="4140000">
                <a:off x="1557720" y="1067040"/>
                <a:ext cx="395280" cy="58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AutoShape 30"/>
              <p:cNvSpPr/>
              <p:nvPr/>
            </p:nvSpPr>
            <p:spPr>
              <a:xfrm flipH="1" rot="4140000">
                <a:off x="946440" y="536760"/>
                <a:ext cx="677520" cy="48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AutoShape 31"/>
              <p:cNvSpPr/>
              <p:nvPr/>
            </p:nvSpPr>
            <p:spPr>
              <a:xfrm flipH="1" rot="4140000">
                <a:off x="124560" y="1107000"/>
                <a:ext cx="709560" cy="245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2"/>
            <p:cNvGrpSpPr/>
            <p:nvPr/>
          </p:nvGrpSpPr>
          <p:grpSpPr>
            <a:xfrm>
              <a:off x="7322040" y="3637080"/>
              <a:ext cx="1258920" cy="1716840"/>
              <a:chOff x="7322040" y="3637080"/>
              <a:chExt cx="1258920" cy="1716840"/>
            </a:xfrm>
          </p:grpSpPr>
          <p:sp>
            <p:nvSpPr>
              <p:cNvPr id="116" name="AutoShape 33"/>
              <p:cNvSpPr/>
              <p:nvPr/>
            </p:nvSpPr>
            <p:spPr>
              <a:xfrm flipH="1" rot="10020000">
                <a:off x="7380720" y="4751640"/>
                <a:ext cx="385920" cy="565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AutoShape 34"/>
              <p:cNvSpPr/>
              <p:nvPr/>
            </p:nvSpPr>
            <p:spPr>
              <a:xfrm flipH="1" rot="10020000">
                <a:off x="7874280" y="4430520"/>
                <a:ext cx="662040" cy="470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AutoShape 35"/>
              <p:cNvSpPr/>
              <p:nvPr/>
            </p:nvSpPr>
            <p:spPr>
              <a:xfrm flipH="1" rot="10020000">
                <a:off x="7537320" y="3711600"/>
                <a:ext cx="691920" cy="237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9" name="AutoShape 36"/>
            <p:cNvSpPr/>
            <p:nvPr/>
          </p:nvSpPr>
          <p:spPr>
            <a:xfrm>
              <a:off x="1915560" y="3240"/>
              <a:ext cx="1369080" cy="14047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AutoShape 37"/>
            <p:cNvSpPr/>
            <p:nvPr/>
          </p:nvSpPr>
          <p:spPr>
            <a:xfrm flipV="1" rot="9840000">
              <a:off x="3413520" y="164160"/>
              <a:ext cx="1081440" cy="9396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AutoShape 38"/>
            <p:cNvSpPr/>
            <p:nvPr/>
          </p:nvSpPr>
          <p:spPr>
            <a:xfrm flipV="1" rot="9840000">
              <a:off x="3156120" y="1362240"/>
              <a:ext cx="523440" cy="4392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AutoShape 39"/>
            <p:cNvSpPr/>
            <p:nvPr/>
          </p:nvSpPr>
          <p:spPr>
            <a:xfrm flipV="1" rot="9840000">
              <a:off x="3518640" y="1285200"/>
              <a:ext cx="194040" cy="3682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2529360" y="0"/>
              <a:ext cx="195480" cy="19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AutoShape 41"/>
            <p:cNvSpPr/>
            <p:nvPr/>
          </p:nvSpPr>
          <p:spPr>
            <a:xfrm flipV="1" rot="9840000">
              <a:off x="3436920" y="1964880"/>
              <a:ext cx="623160" cy="36496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AutoShape 42"/>
            <p:cNvSpPr/>
            <p:nvPr/>
          </p:nvSpPr>
          <p:spPr>
            <a:xfrm>
              <a:off x="-20520" y="2933640"/>
              <a:ext cx="55440" cy="2080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4070D1-EA71-4CFD-A4D0-14ABD86D9301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42960" y="1500120"/>
            <a:ext cx="792972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Monotype Corsiva"/>
              </a:rPr>
              <a:t>Презентация к празднику «День смеха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2071800" y="3054240"/>
            <a:ext cx="4286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Monotype Corsiva"/>
              </a:rPr>
              <a:t>Приложение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№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660920" cy="48225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2"/>
          <p:cNvSpPr txBox="1"/>
          <p:nvPr/>
        </p:nvSpPr>
        <p:spPr>
          <a:xfrm>
            <a:off x="1258920" y="4797360"/>
            <a:ext cx="619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3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1 апреля 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640720" cy="6048360"/>
          </a:xfrm>
          <a:prstGeom prst="rect">
            <a:avLst/>
          </a:prstGeom>
          <a:ln w="0">
            <a:noFill/>
          </a:ln>
        </p:spPr>
      </p:pic>
      <p:sp>
        <p:nvSpPr>
          <p:cNvPr id="172" name="WordArt 2"/>
          <p:cNvSpPr txBox="1"/>
          <p:nvPr/>
        </p:nvSpPr>
        <p:spPr>
          <a:xfrm>
            <a:off x="3924360" y="0"/>
            <a:ext cx="475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Ольхов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2000" cy="4761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"/>
          <p:cNvSpPr/>
          <p:nvPr/>
        </p:nvSpPr>
        <p:spPr>
          <a:xfrm>
            <a:off x="3132000" y="3645000"/>
            <a:ext cx="1940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рямо пойдешь сплошные таланты, певцы да музыкан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258920" y="3860640"/>
            <a:ext cx="1730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лево пойдешь – танцора найдеш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508720" y="3860640"/>
            <a:ext cx="17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право пойдешь – поэта найдеш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2340000" y="5734080"/>
            <a:ext cx="3313080" cy="792000"/>
          </a:xfrm>
          <a:prstGeom prst="pi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1"/>
          <p:cNvSpPr txBox="1"/>
          <p:nvPr/>
        </p:nvSpPr>
        <p:spPr>
          <a:xfrm>
            <a:off x="2050920" y="260280"/>
            <a:ext cx="5073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</a:rPr>
              <a:t>Ольховка - 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434000" cy="48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785880" y="500040"/>
            <a:ext cx="6119640" cy="5113440"/>
          </a:xfrm>
          <a:prstGeom prst="irregularSeal1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WordArt 2"/>
          <p:cNvSpPr txBox="1"/>
          <p:nvPr/>
        </p:nvSpPr>
        <p:spPr>
          <a:xfrm>
            <a:off x="428760" y="714240"/>
            <a:ext cx="552132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нцуй деревня 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7885080" y="692280"/>
            <a:ext cx="934920" cy="1152360"/>
          </a:xfrm>
          <a:custGeom>
            <a:avLst/>
            <a:gdLst>
              <a:gd name="textAreaLeft" fmla="*/ 385200 w 934920"/>
              <a:gd name="textAreaRight" fmla="*/ 549720 w 934920"/>
              <a:gd name="textAreaTop" fmla="*/ 474840 h 1152360"/>
              <a:gd name="textAreaBottom" fmla="*/ 677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26920" y="5445000"/>
            <a:ext cx="1224000" cy="1008360"/>
          </a:xfrm>
          <a:custGeom>
            <a:avLst/>
            <a:gdLst>
              <a:gd name="textAreaLeft" fmla="*/ 504360 w 1224000"/>
              <a:gd name="textAreaRight" fmla="*/ 719640 w 1224000"/>
              <a:gd name="textAreaTop" fmla="*/ 415440 h 1008360"/>
              <a:gd name="textAreaBottom" fmla="*/ 59292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2195640" y="333360"/>
            <a:ext cx="649080" cy="792000"/>
          </a:xfrm>
          <a:prstGeom prst="pie">
            <a:avLst/>
          </a:prstGeom>
          <a:solidFill>
            <a:srgbClr val="ff0d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6372360" y="5805360"/>
            <a:ext cx="865080" cy="792360"/>
          </a:xfrm>
          <a:prstGeom prst="pie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7956720" y="2781360"/>
            <a:ext cx="718920" cy="792000"/>
          </a:xfrm>
          <a:prstGeom prst="pie">
            <a:avLst/>
          </a:prstGeom>
          <a:solidFill>
            <a:srgbClr val="33cc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WordArt 8"/>
          <p:cNvSpPr txBox="1"/>
          <p:nvPr/>
        </p:nvSpPr>
        <p:spPr>
          <a:xfrm>
            <a:off x="3714840" y="2286000"/>
            <a:ext cx="460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аз мод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9"/>
          <p:cNvSpPr txBox="1"/>
          <p:nvPr/>
        </p:nvSpPr>
        <p:spPr>
          <a:xfrm>
            <a:off x="285840" y="3714840"/>
            <a:ext cx="446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курсы!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10"/>
          <p:cNvSpPr txBox="1"/>
          <p:nvPr/>
        </p:nvSpPr>
        <p:spPr>
          <a:xfrm>
            <a:off x="4929120" y="5000760"/>
            <a:ext cx="360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ушк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1"/>
          <a:stretch/>
        </p:blipFill>
        <p:spPr>
          <a:xfrm>
            <a:off x="928800" y="2214720"/>
            <a:ext cx="140976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1"/>
          <p:cNvSpPr/>
          <p:nvPr/>
        </p:nvSpPr>
        <p:spPr>
          <a:xfrm rot="1620000">
            <a:off x="2124000" y="906480"/>
            <a:ext cx="4824360" cy="4176720"/>
          </a:xfrm>
          <a:prstGeom prst="irregularSeal2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WordArt 2"/>
          <p:cNvSpPr txBox="1"/>
          <p:nvPr/>
        </p:nvSpPr>
        <p:spPr>
          <a:xfrm>
            <a:off x="2268360" y="1557360"/>
            <a:ext cx="43624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н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Красная шапочк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217960" cy="29242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4"/>
          <p:cNvSpPr/>
          <p:nvPr/>
        </p:nvSpPr>
        <p:spPr>
          <a:xfrm>
            <a:off x="1908000" y="5229360"/>
            <a:ext cx="1440000" cy="1152360"/>
          </a:xfrm>
          <a:prstGeom prst="pie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6659640" y="620640"/>
            <a:ext cx="1439640" cy="1152720"/>
          </a:xfrm>
          <a:prstGeom prst="pie">
            <a:avLst/>
          </a:prstGeom>
          <a:solidFill>
            <a:srgbClr val="00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619280" y="476280"/>
            <a:ext cx="1008000" cy="1081080"/>
          </a:xfrm>
          <a:custGeom>
            <a:avLst/>
            <a:gdLst>
              <a:gd name="textAreaLeft" fmla="*/ 415440 w 1008000"/>
              <a:gd name="textAreaRight" fmla="*/ 592560 w 1008000"/>
              <a:gd name="textAreaTop" fmla="*/ 445320 h 1081080"/>
              <a:gd name="textAreaBottom" fmla="*/ 6357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1398600" y="255600"/>
            <a:ext cx="6348240" cy="63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02:09Z</dcterms:created>
  <dc:creator>User</dc:creator>
  <dc:description/>
  <dc:language>en-US</dc:language>
  <cp:lastModifiedBy>User</cp:lastModifiedBy>
  <dcterms:modified xsi:type="dcterms:W3CDTF">2012-09-12T21:28:31Z</dcterms:modified>
  <cp:revision>9</cp:revision>
  <dc:subject/>
  <dc:title>Слайд 1</dc:title>
</cp:coreProperties>
</file>