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F94-4EF7-46FD-98DF-EC9AEDF87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CEA6-636F-46E5-9084-DE41542E62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2FD-8457-45F8-9049-2162F685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76D-EF5D-4A69-B148-A5028229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C02-0C0D-476F-8128-11B2F63D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552-0351-4923-AE7D-BF427D50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A45-8D3C-4EC6-B79E-E66A042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153-119E-4F43-8305-70B86493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DC5-F6C7-4E2E-8FA7-F94AFD97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B71-606E-4037-A76F-650B248E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71E-151E-4EF8-87EA-7420BD8D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DE2-F95D-42BD-82B0-572C049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E58-3338-4259-B806-447545D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E3A-EC52-47B6-9525-5C4C30E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C043-8C2F-4DA6-86CE-7EE6035E4F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513-47DA-4886-9AD6-4EF7F7144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Степень числ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3" descr="H:\Documents and Settings\Aida\Рабочий стол\МОИ шаблоны ЭКСПЕРИМЕНТы\matematika2.jpg"/>
          <p:cNvPicPr/>
          <p:nvPr/>
        </p:nvPicPr>
        <p:blipFill>
          <a:blip r:embed="rId2"/>
          <a:stretch/>
        </p:blipFill>
        <p:spPr>
          <a:xfrm>
            <a:off x="212760" y="0"/>
            <a:ext cx="1774800" cy="160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:\Documents and Settings\Aida\Рабочий стол\текстуры и фоны, клипарты\ruler.gif"/>
          <p:cNvPicPr/>
          <p:nvPr/>
        </p:nvPicPr>
        <p:blipFill>
          <a:blip r:embed="rId3"/>
          <a:stretch/>
        </p:blipFill>
        <p:spPr>
          <a:xfrm>
            <a:off x="2643120" y="1428840"/>
            <a:ext cx="558180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A2CC-EAE8-418F-88F7-A226DB731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611280" y="11970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изведение 5 · 5 называют квадратом числа 5 и обозначают 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= а · а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539640" y="350028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изведение 7 · 7 · 7 называют кубом числа 7 и обозначают 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= а · а ·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547640" y="404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вадрат и куб чис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381-7DC0-4CD1-93EB-938CEE6E9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0" y="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Найдите значения выраж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 14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  1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2852640"/>
          <a:ext cx="8640720" cy="2448000"/>
        </p:xfrm>
        <a:graphic>
          <a:graphicData uri="http://schemas.openxmlformats.org/drawingml/2006/table">
            <a:tbl>
              <a:tblPr/>
              <a:tblGrid>
                <a:gridCol w="787320"/>
                <a:gridCol w="581040"/>
                <a:gridCol w="576000"/>
                <a:gridCol w="648000"/>
                <a:gridCol w="718920"/>
                <a:gridCol w="792360"/>
                <a:gridCol w="792000"/>
                <a:gridCol w="865080"/>
                <a:gridCol w="863640"/>
                <a:gridCol w="863640"/>
                <a:gridCol w="1152720"/>
              </a:tblGrid>
              <a:tr h="808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Прямоугольник 7"/>
          <p:cNvSpPr/>
          <p:nvPr/>
        </p:nvSpPr>
        <p:spPr>
          <a:xfrm>
            <a:off x="1187280" y="21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1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Заполнить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2852640"/>
          <a:ext cx="8640720" cy="2448000"/>
        </p:xfrm>
        <a:graphic>
          <a:graphicData uri="http://schemas.openxmlformats.org/drawingml/2006/table">
            <a:tbl>
              <a:tblPr/>
              <a:tblGrid>
                <a:gridCol w="787320"/>
                <a:gridCol w="581040"/>
                <a:gridCol w="576000"/>
                <a:gridCol w="648000"/>
                <a:gridCol w="718920"/>
                <a:gridCol w="792360"/>
                <a:gridCol w="792000"/>
                <a:gridCol w="865080"/>
                <a:gridCol w="863640"/>
                <a:gridCol w="863640"/>
                <a:gridCol w="1152720"/>
              </a:tblGrid>
              <a:tr h="808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Прямоугольник 7"/>
          <p:cNvSpPr/>
          <p:nvPr/>
        </p:nvSpPr>
        <p:spPr>
          <a:xfrm>
            <a:off x="1173240" y="2133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1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Заполнить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ть таблицу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2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26E0-894A-4A1D-83A4-F40C16DBD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620-F163-4AD9-8171-B7BF5FF1F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1268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порядок выполнения действий в этом выра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68360" y="260280"/>
            <a:ext cx="73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значение выраж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+ 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395280" y="249228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 значение суммы в скоб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яем квадраты и кубы чи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умно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с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316-A0BA-4D6D-8844-FD60B1903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561440" cy="174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7408800" cy="1735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627120" y="33336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7526-B483-491A-809E-5A2B90114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882080" y="47628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95280" y="20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.4 учебник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задан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52,25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2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09A2-B896-401C-8B45-192E7AEB1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539640" y="1998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на урок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показалось трудным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бы ещё хотел выполнить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результатом считаю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260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агаю  вам закончить предложе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F74D-2B32-43C7-B4E0-E78A2516C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48428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Каков порядок выполнения действий при вычислении значения выра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60 + 37 – 20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90 – 60 : 15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0 – (15 + 25) :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( 12 · 3 + 14) : 2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3B0-6C64-456D-954E-077019DB44CB}" type="slidenum">
              <a:rPr b="0" lang="ru-RU" sz="11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11280" y="1557360"/>
            <a:ext cx="828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2)Угадайте корни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а) x · x = 25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б) y · y =81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в)a · a =1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г) b · b · b =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7DDB-D4BC-485A-B816-EAE75289A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68360" y="1916280"/>
            <a:ext cx="8315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выра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2 + 2 + 2 + 2    и     2 · 2 · 2 · 2 · 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у ни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ни отличаю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8561-9C79-4F70-8008-B0247C626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403280" y="1495080"/>
            <a:ext cx="693756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 знаете, как сумм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+ 2 + 2 + 2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ать коро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+ 2 + 2 + 2 + 2=2 ·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о показывает число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о показывает число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ABBB-D019-4166-9854-0D3603078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200960" y="873000"/>
            <a:ext cx="7177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А как вы думает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можно ли произ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ать короч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567D-5109-4F93-A4CB-010AAAE67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614520" y="-1971720"/>
            <a:ext cx="10373040" cy="126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D00-D324-416D-BB01-869C63484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8360" y="1312560"/>
            <a:ext cx="770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 =2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ь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итают “два в пятой степени”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– основание степе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5 – показатель степе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степ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58D4-3BE7-4D98-87E0-E09E4C1C43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1599840"/>
            <a:ext cx="81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шем произведения в виде степени и найдем их зна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4 · 4 ·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3 · 3 ·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 ·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50:59Z</dcterms:created>
  <dc:creator>Дунина Н.П.</dc:creator>
  <dc:description/>
  <cp:keywords>степени числа основания степени и показателя степени квадрата числа куба числа</cp:keywords>
  <dc:language>en-US</dc:language>
  <cp:lastModifiedBy>школа-интернат</cp:lastModifiedBy>
  <dcterms:modified xsi:type="dcterms:W3CDTF">2017-10-19T06:31:48Z</dcterms:modified>
  <cp:revision>34</cp:revision>
  <dc:subject>Степень числа</dc:subject>
  <dc:title>математика 5 класс ФГОС</dc:title>
</cp:coreProperties>
</file>