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DBAB-F579-438F-A08F-799F8DC75E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F7C2-E34C-46CD-8F72-0F8817EE9E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0C44-F91C-4AEF-952E-E833C031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0573-62F4-4CAE-80D2-C156C726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1959-6F94-431B-A262-CBBD37E7E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6A63-E699-4033-8B5E-2AB34915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B6A8-76D6-4F98-B467-60C98440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7B3E-E6B1-4A64-B8DE-1363818E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3121-1348-4C8C-8493-F34ADB72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86A2-91BA-4C46-A951-672E4B6C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7D23-54C3-488C-99DF-149122B7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6456-777C-4619-A082-BA2550B1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D141-B204-4932-9C4E-CF91EC71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F4BF-F562-4BFC-BD22-2B7A8FD1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22D9-90B8-449B-A4C9-074AA295BF6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B152-B0A6-403A-BAE5-8AE558C843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eorgia"/>
              </a:rPr>
              <a:t>Степень числ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3" descr="H:\Documents and Settings\Aida\Рабочий стол\МОИ шаблоны ЭКСПЕРИМЕНТы\matematika2.jpg"/>
          <p:cNvPicPr/>
          <p:nvPr/>
        </p:nvPicPr>
        <p:blipFill>
          <a:blip r:embed="rId2"/>
          <a:stretch/>
        </p:blipFill>
        <p:spPr>
          <a:xfrm>
            <a:off x="212760" y="0"/>
            <a:ext cx="1774800" cy="1603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H:\Documents and Settings\Aida\Рабочий стол\текстуры и фоны, клипарты\ruler.gif"/>
          <p:cNvPicPr/>
          <p:nvPr/>
        </p:nvPicPr>
        <p:blipFill>
          <a:blip r:embed="rId3"/>
          <a:stretch/>
        </p:blipFill>
        <p:spPr>
          <a:xfrm>
            <a:off x="2643120" y="1428840"/>
            <a:ext cx="5581800" cy="171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6D75-62DE-443E-94DE-ADDFA0DF0E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611280" y="119700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Произведение 5 · 5 называют квадратом числа 5 и обозначают 5</a:t>
            </a:r>
            <a:r>
              <a:rPr b="0" lang="ru-RU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1" lang="ru-RU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= а · а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4"/>
          <p:cNvSpPr/>
          <p:nvPr/>
        </p:nvSpPr>
        <p:spPr>
          <a:xfrm>
            <a:off x="539640" y="3500280"/>
            <a:ext cx="83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Произведение 7 · 7 · 7 называют кубом числа 7 и обозначают 7</a:t>
            </a:r>
            <a:r>
              <a:rPr b="0" lang="ru-RU" sz="36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1" lang="ru-RU" sz="36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= а · а · 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1547640" y="40464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Квадрат и куб числ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78E2-7518-4E34-8F2F-4A19603D32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0" y="0"/>
            <a:ext cx="88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Найдите значения выражен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7</a:t>
            </a:r>
            <a:r>
              <a:rPr b="0" lang="ru-RU" sz="4400" spc="-1" strike="noStrike" baseline="30000">
                <a:solidFill>
                  <a:srgbClr val="000000"/>
                </a:solidFill>
                <a:latin typeface="Georgia"/>
              </a:rPr>
              <a:t>1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 =? 14</a:t>
            </a:r>
            <a:r>
              <a:rPr b="0" lang="ru-RU" sz="4400" spc="-1" strike="noStrike" baseline="30000">
                <a:solidFill>
                  <a:srgbClr val="000000"/>
                </a:solidFill>
                <a:latin typeface="Georgia"/>
              </a:rPr>
              <a:t>1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 =?  1</a:t>
            </a:r>
            <a:r>
              <a:rPr b="0" lang="ru-RU" sz="4400" spc="-1" strike="noStrike" baseline="30000">
                <a:solidFill>
                  <a:srgbClr val="000000"/>
                </a:solidFill>
                <a:latin typeface="Georgia"/>
              </a:rPr>
              <a:t>1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 =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24000" y="2852640"/>
          <a:ext cx="8640720" cy="2448000"/>
        </p:xfrm>
        <a:graphic>
          <a:graphicData uri="http://schemas.openxmlformats.org/drawingml/2006/table">
            <a:tbl>
              <a:tblPr/>
              <a:tblGrid>
                <a:gridCol w="787320"/>
                <a:gridCol w="581040"/>
                <a:gridCol w="576000"/>
                <a:gridCol w="648000"/>
                <a:gridCol w="718920"/>
                <a:gridCol w="792360"/>
                <a:gridCol w="792000"/>
                <a:gridCol w="865080"/>
                <a:gridCol w="863640"/>
                <a:gridCol w="863640"/>
                <a:gridCol w="1152720"/>
              </a:tblGrid>
              <a:tr h="80820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Х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Х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Прямоугольник 7"/>
          <p:cNvSpPr/>
          <p:nvPr/>
        </p:nvSpPr>
        <p:spPr>
          <a:xfrm>
            <a:off x="1187280" y="21337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1 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Заполнить таблиц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24000" y="2852640"/>
          <a:ext cx="8640720" cy="2448000"/>
        </p:xfrm>
        <a:graphic>
          <a:graphicData uri="http://schemas.openxmlformats.org/drawingml/2006/table">
            <a:tbl>
              <a:tblPr/>
              <a:tblGrid>
                <a:gridCol w="787320"/>
                <a:gridCol w="581040"/>
                <a:gridCol w="576000"/>
                <a:gridCol w="648000"/>
                <a:gridCol w="718920"/>
                <a:gridCol w="792360"/>
                <a:gridCol w="792000"/>
                <a:gridCol w="865080"/>
                <a:gridCol w="863640"/>
                <a:gridCol w="863640"/>
                <a:gridCol w="1152720"/>
              </a:tblGrid>
              <a:tr h="80820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Х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Х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Прямоугольник 7"/>
          <p:cNvSpPr/>
          <p:nvPr/>
        </p:nvSpPr>
        <p:spPr>
          <a:xfrm>
            <a:off x="1173240" y="213372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1 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Заполнить таблиц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полнить таблицу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25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D7A5-8448-43B6-996D-3D7F8CCCA7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8ABA-B23D-44AD-B4A7-8ADE03C67E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324000" y="126828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 порядок выполнения действий в этом выражен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468360" y="260280"/>
            <a:ext cx="736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ем значение выражен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+ 1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395280" y="2492280"/>
            <a:ext cx="813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им значение суммы в скобк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яем квадраты и кубы чисе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ем умнож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ем с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D28C-AF93-4638-87E0-76AC6D0AEB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7561440" cy="1741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611280" y="3429000"/>
            <a:ext cx="7408800" cy="17352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5"/>
          <p:cNvSpPr/>
          <p:nvPr/>
        </p:nvSpPr>
        <p:spPr>
          <a:xfrm>
            <a:off x="627120" y="33336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Самостоятельн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105E-F355-4791-B02A-84D1BF0462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1882080" y="476280"/>
            <a:ext cx="48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395280" y="2060640"/>
            <a:ext cx="813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3.4 учебника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задания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252,25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2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2F58-5A54-411E-8A94-1A7EFF252D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"/>
          <p:cNvSpPr/>
          <p:nvPr/>
        </p:nvSpPr>
        <p:spPr>
          <a:xfrm>
            <a:off x="539640" y="199872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Мне на уроке понравилось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Мне показалось трудным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Я бы ещё хотел выполнить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Главным результатом считаю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0" y="26028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лагаю  вам закончить предложения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0A58-CA24-4194-8FF3-B98FBC3D53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26560" y="1484280"/>
            <a:ext cx="813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Каков порядок выполнения действий при вычислении значения выраж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160 + 37 – 20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90 – 60 : 15;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80 – (15 + 25) : 5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( 12 · 3 + 14) : 2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DAE8-717F-450C-BD04-3EE3D4278838}" type="slidenum">
              <a:rPr b="0" lang="ru-RU" sz="11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611280" y="1557360"/>
            <a:ext cx="82818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2)Угадайте корни уравн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а) x · x = 25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б) y · y =81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в)a · a =1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г) b · b · b =0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813D-66DE-4245-8680-C4151C4A8C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468360" y="1916280"/>
            <a:ext cx="8315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 выраж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+ 2 + 2 + 2 + 2    и     2 · 2 · 2 · 2 · 2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бщего у них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они отличаютс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E1EC-2DAA-4380-8ABC-0C930C76A5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1403280" y="1495080"/>
            <a:ext cx="693756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eorgia"/>
                <a:ea typeface="Times New Roman"/>
              </a:rPr>
              <a:t>Вы знаете, как сумму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2 + 2 + 2 + 2 +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  <a:ea typeface="Times New Roman"/>
              </a:rPr>
              <a:t>записать короч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2 + 2 + 2 + 2 + 2=2 · 5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Что показывает число 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Что показывает число 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1FFB-9924-423B-92CC-356E184342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"/>
          <p:cNvSpPr/>
          <p:nvPr/>
        </p:nvSpPr>
        <p:spPr>
          <a:xfrm>
            <a:off x="1200960" y="873000"/>
            <a:ext cx="71773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  <a:ea typeface="Times New Roman"/>
              </a:rPr>
              <a:t>А как вы думаете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  <a:ea typeface="Times New Roman"/>
              </a:rPr>
              <a:t>можно ли произ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  <a:ea typeface="Times New Roman"/>
              </a:rPr>
              <a:t>2 · 2 · 2 · 2 ·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  <a:ea typeface="Times New Roman"/>
              </a:rPr>
              <a:t>записать короч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E300-EB9F-4470-B416-26B593B711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-614520" y="-1971720"/>
            <a:ext cx="10373040" cy="126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33EF-72C2-428F-84A7-C6C79681D9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468360" y="1312560"/>
            <a:ext cx="770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2 · 2 · 2 · 2 · 2 =2 </a:t>
            </a:r>
            <a:r>
              <a:rPr b="1" lang="ru-RU" sz="40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Запись 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2 </a:t>
            </a:r>
            <a:r>
              <a:rPr b="1" lang="ru-RU" sz="40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5</a:t>
            </a:r>
            <a:r>
              <a:rPr b="0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читают “два в пятой степени”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2 – основание степен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5 – показатель степен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2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5</a:t>
            </a:r>
            <a:r>
              <a:rPr b="0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 – степен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1518-EF70-4F27-A6EB-AF23AE6268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324000" y="1599840"/>
            <a:ext cx="813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Запишем произведения в виде степени и найдем их знач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4 · 4 · 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3 · 3 · 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2 · 2 · 2 · 2 · 2 ·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2:50:59Z</dcterms:created>
  <dc:creator>Дунина Н.П.</dc:creator>
  <dc:description/>
  <cp:keywords>степени числа основания степени и показателя степени квадрата числа куба числа</cp:keywords>
  <dc:language>en-US</dc:language>
  <cp:lastModifiedBy>школа-интернат</cp:lastModifiedBy>
  <dcterms:modified xsi:type="dcterms:W3CDTF">2017-10-19T06:31:48Z</dcterms:modified>
  <cp:revision>34</cp:revision>
  <dc:subject>Степень числа</dc:subject>
  <dc:title>математика 5 класс ФГОС</dc:title>
</cp:coreProperties>
</file>