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F4054-E765-4882-8889-64FBEFEA995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CF07B-F303-4275-A043-C153CF16A47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06189-F303-4330-B3B3-ED6C2BEED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48C39-0362-4341-9850-B6D4C7BED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0B742-E4A2-4F73-BAB5-433C15A05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CB527-EC7B-4B85-B584-284B36468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10E60-AE0A-4AC8-A8A5-EEAFBE676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90854-4DB9-4D50-A9F6-AC25C273F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BEABB-5F4B-48D5-97EF-0FC7C858C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8272E-1A04-4BA1-8470-D66405148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933D3-1A70-415F-BB47-4B4B3D8E1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F0941-D282-4481-9163-4E1B0EA8A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5E35F-48A4-4D14-A34F-8219AE59C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CE365-CE10-4085-B2FB-40DEF6E73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80601-4C55-4364-928F-41CC2619BB3E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FF78C-646A-4EA1-917D-D9908D51311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14240" y="31431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Georgia"/>
              </a:rPr>
              <a:t>Степень числа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13" descr="H:\Documents and Settings\Aida\Рабочий стол\МОИ шаблоны ЭКСПЕРИМЕНТы\matematika2.jpg"/>
          <p:cNvPicPr/>
          <p:nvPr/>
        </p:nvPicPr>
        <p:blipFill>
          <a:blip r:embed="rId2"/>
          <a:stretch/>
        </p:blipFill>
        <p:spPr>
          <a:xfrm>
            <a:off x="212760" y="0"/>
            <a:ext cx="1774800" cy="16034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9" descr="H:\Documents and Settings\Aida\Рабочий стол\текстуры и фоны, клипарты\ruler.gif"/>
          <p:cNvPicPr/>
          <p:nvPr/>
        </p:nvPicPr>
        <p:blipFill>
          <a:blip r:embed="rId3"/>
          <a:stretch/>
        </p:blipFill>
        <p:spPr>
          <a:xfrm>
            <a:off x="2643120" y="1428840"/>
            <a:ext cx="5581800" cy="17136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6FD27-70C1-4CF5-BB70-11B14C900E9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Прямоугольник 3"/>
          <p:cNvSpPr/>
          <p:nvPr/>
        </p:nvSpPr>
        <p:spPr>
          <a:xfrm>
            <a:off x="611280" y="1197000"/>
            <a:ext cx="8353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Произведение 5 · 5 называют квадратом числа 5 и обозначают 5</a:t>
            </a:r>
            <a:r>
              <a:rPr b="0" lang="ru-RU" sz="3600" spc="-1" strike="noStrike" baseline="30000">
                <a:solidFill>
                  <a:srgbClr val="000000"/>
                </a:solidFill>
                <a:latin typeface="Georgia"/>
              </a:rPr>
              <a:t>2</a:t>
            </a: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Georgia"/>
              </a:rPr>
              <a:t>а</a:t>
            </a:r>
            <a:r>
              <a:rPr b="1" lang="ru-RU" sz="3600" spc="-1" strike="noStrike" baseline="30000">
                <a:solidFill>
                  <a:srgbClr val="000000"/>
                </a:solidFill>
                <a:latin typeface="Georgia"/>
              </a:rPr>
              <a:t>2</a:t>
            </a:r>
            <a:r>
              <a:rPr b="1" lang="ru-RU" sz="3600" spc="-1" strike="noStrike">
                <a:solidFill>
                  <a:srgbClr val="000000"/>
                </a:solidFill>
                <a:latin typeface="Georgia"/>
              </a:rPr>
              <a:t> = а · а</a:t>
            </a: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Прямоугольник 4"/>
          <p:cNvSpPr/>
          <p:nvPr/>
        </p:nvSpPr>
        <p:spPr>
          <a:xfrm>
            <a:off x="539640" y="3500280"/>
            <a:ext cx="8388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Произведение 7 · 7 · 7 называют кубом числа 7 и обозначают 7</a:t>
            </a:r>
            <a:r>
              <a:rPr b="0" lang="ru-RU" sz="3600" spc="-1" strike="noStrike" baseline="30000">
                <a:solidFill>
                  <a:srgbClr val="000000"/>
                </a:solidFill>
                <a:latin typeface="Georgia"/>
              </a:rPr>
              <a:t>3</a:t>
            </a: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Georgia"/>
              </a:rPr>
              <a:t>а</a:t>
            </a:r>
            <a:r>
              <a:rPr b="1" lang="ru-RU" sz="3600" spc="-1" strike="noStrike" baseline="30000">
                <a:solidFill>
                  <a:srgbClr val="000000"/>
                </a:solidFill>
                <a:latin typeface="Georgia"/>
              </a:rPr>
              <a:t>3</a:t>
            </a:r>
            <a:r>
              <a:rPr b="1" lang="ru-RU" sz="3600" spc="-1" strike="noStrike">
                <a:solidFill>
                  <a:srgbClr val="000000"/>
                </a:solidFill>
                <a:latin typeface="Georgia"/>
              </a:rPr>
              <a:t> = а · а · 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Прямоугольник 4"/>
          <p:cNvSpPr/>
          <p:nvPr/>
        </p:nvSpPr>
        <p:spPr>
          <a:xfrm>
            <a:off x="1547640" y="404640"/>
            <a:ext cx="633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Georgia"/>
              </a:rPr>
              <a:t>Квадрат и куб числа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" dur="20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" dur="20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" dur="20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" dur="20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FEE96-BBD1-4EFF-A75E-CB3D32304AE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Прямоугольник 3"/>
          <p:cNvSpPr/>
          <p:nvPr/>
        </p:nvSpPr>
        <p:spPr>
          <a:xfrm>
            <a:off x="0" y="0"/>
            <a:ext cx="8893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Georgia"/>
              </a:rPr>
              <a:t>Найдите значения выражений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Georgia"/>
              </a:rPr>
              <a:t>7</a:t>
            </a:r>
            <a:r>
              <a:rPr b="0" lang="ru-RU" sz="4400" spc="-1" strike="noStrike" baseline="30000">
                <a:solidFill>
                  <a:srgbClr val="000000"/>
                </a:solidFill>
                <a:latin typeface="Georgia"/>
              </a:rPr>
              <a:t>1</a:t>
            </a:r>
            <a:r>
              <a:rPr b="0" lang="ru-RU" sz="4400" spc="-1" strike="noStrike">
                <a:solidFill>
                  <a:srgbClr val="000000"/>
                </a:solidFill>
                <a:latin typeface="Georgia"/>
              </a:rPr>
              <a:t> =? 14</a:t>
            </a:r>
            <a:r>
              <a:rPr b="0" lang="ru-RU" sz="4400" spc="-1" strike="noStrike" baseline="30000">
                <a:solidFill>
                  <a:srgbClr val="000000"/>
                </a:solidFill>
                <a:latin typeface="Georgia"/>
              </a:rPr>
              <a:t>1</a:t>
            </a:r>
            <a:r>
              <a:rPr b="0" lang="ru-RU" sz="4400" spc="-1" strike="noStrike">
                <a:solidFill>
                  <a:srgbClr val="000000"/>
                </a:solidFill>
                <a:latin typeface="Georgia"/>
              </a:rPr>
              <a:t> =?  1</a:t>
            </a:r>
            <a:r>
              <a:rPr b="0" lang="ru-RU" sz="4400" spc="-1" strike="noStrike" baseline="30000">
                <a:solidFill>
                  <a:srgbClr val="000000"/>
                </a:solidFill>
                <a:latin typeface="Georgia"/>
              </a:rPr>
              <a:t>1</a:t>
            </a:r>
            <a:r>
              <a:rPr b="0" lang="ru-RU" sz="4400" spc="-1" strike="noStrike">
                <a:solidFill>
                  <a:srgbClr val="000000"/>
                </a:solidFill>
                <a:latin typeface="Georgia"/>
              </a:rPr>
              <a:t> =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324000" y="2852640"/>
          <a:ext cx="8640720" cy="2448000"/>
        </p:xfrm>
        <a:graphic>
          <a:graphicData uri="http://schemas.openxmlformats.org/drawingml/2006/table">
            <a:tbl>
              <a:tblPr/>
              <a:tblGrid>
                <a:gridCol w="787320"/>
                <a:gridCol w="581040"/>
                <a:gridCol w="576000"/>
                <a:gridCol w="648000"/>
                <a:gridCol w="718920"/>
                <a:gridCol w="792360"/>
                <a:gridCol w="792000"/>
                <a:gridCol w="865080"/>
                <a:gridCol w="863640"/>
                <a:gridCol w="863640"/>
                <a:gridCol w="1152720"/>
              </a:tblGrid>
              <a:tr h="808200">
                <a:tc>
                  <a:txBody>
                    <a:bodyPr lIns="65880" rIns="65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Georgia"/>
                          <a:ea typeface="Calibri"/>
                        </a:rPr>
                        <a:t>Х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880" rIns="65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880" rIns="65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880" rIns="65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880" rIns="65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880" rIns="65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880" rIns="65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880" rIns="65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880" rIns="65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880" rIns="65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880" rIns="65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7840">
                <a:tc>
                  <a:txBody>
                    <a:bodyPr lIns="65880" rIns="65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Georgia"/>
                          <a:ea typeface="Calibri"/>
                        </a:rPr>
                        <a:t>Х</a:t>
                      </a:r>
                      <a:r>
                        <a:rPr b="1" lang="ru-RU" sz="2800" spc="-1" strike="noStrike" baseline="30000">
                          <a:solidFill>
                            <a:srgbClr val="000000"/>
                          </a:solidFill>
                          <a:latin typeface="Georgia"/>
                          <a:ea typeface="Calibri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880" rIns="658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880" rIns="658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880" rIns="658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880" rIns="658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880" rIns="658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880" rIns="658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880" rIns="658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880" rIns="658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880" rIns="658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880" rIns="658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1960">
                <a:tc>
                  <a:txBody>
                    <a:bodyPr lIns="65880" rIns="65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Georgia"/>
                          <a:ea typeface="Calibri"/>
                        </a:rPr>
                        <a:t>Х</a:t>
                      </a:r>
                      <a:r>
                        <a:rPr b="1" lang="ru-RU" sz="2800" spc="-1" strike="noStrike" baseline="30000">
                          <a:solidFill>
                            <a:srgbClr val="000000"/>
                          </a:solidFill>
                          <a:latin typeface="Georgia"/>
                          <a:ea typeface="Calibri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880" rIns="658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880" rIns="658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880" rIns="658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880" rIns="658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880" rIns="658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880" rIns="658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880" rIns="658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880" rIns="658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880" rIns="658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880" rIns="658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4" name="Прямоугольник 7"/>
          <p:cNvSpPr/>
          <p:nvPr/>
        </p:nvSpPr>
        <p:spPr>
          <a:xfrm>
            <a:off x="1187280" y="2133720"/>
            <a:ext cx="633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№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1  </a:t>
            </a: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Заполнить таблиц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324000" y="2852640"/>
          <a:ext cx="8640720" cy="2448000"/>
        </p:xfrm>
        <a:graphic>
          <a:graphicData uri="http://schemas.openxmlformats.org/drawingml/2006/table">
            <a:tbl>
              <a:tblPr/>
              <a:tblGrid>
                <a:gridCol w="787320"/>
                <a:gridCol w="581040"/>
                <a:gridCol w="576000"/>
                <a:gridCol w="648000"/>
                <a:gridCol w="718920"/>
                <a:gridCol w="792360"/>
                <a:gridCol w="792000"/>
                <a:gridCol w="865080"/>
                <a:gridCol w="863640"/>
                <a:gridCol w="863640"/>
                <a:gridCol w="1152720"/>
              </a:tblGrid>
              <a:tr h="808200">
                <a:tc>
                  <a:txBody>
                    <a:bodyPr lIns="65880" rIns="65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Georgia"/>
                          <a:ea typeface="Calibri"/>
                        </a:rPr>
                        <a:t>Х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880" rIns="65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880" rIns="65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880" rIns="65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880" rIns="65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880" rIns="65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880" rIns="65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880" rIns="65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880" rIns="65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880" rIns="65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880" rIns="65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7840">
                <a:tc>
                  <a:txBody>
                    <a:bodyPr lIns="65880" rIns="65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Georgia"/>
                          <a:ea typeface="Calibri"/>
                        </a:rPr>
                        <a:t>Х</a:t>
                      </a:r>
                      <a:r>
                        <a:rPr b="1" lang="ru-RU" sz="2800" spc="-1" strike="noStrike" baseline="30000">
                          <a:solidFill>
                            <a:srgbClr val="000000"/>
                          </a:solidFill>
                          <a:latin typeface="Georgia"/>
                          <a:ea typeface="Calibri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880" rIns="65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880" rIns="65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880" rIns="65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880" rIns="65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880" rIns="65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880" rIns="65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880" rIns="65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880" rIns="65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880" rIns="65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880" rIns="65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1960">
                <a:tc>
                  <a:txBody>
                    <a:bodyPr lIns="65880" rIns="65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Georgia"/>
                          <a:ea typeface="Calibri"/>
                        </a:rPr>
                        <a:t>Х</a:t>
                      </a:r>
                      <a:r>
                        <a:rPr b="1" lang="ru-RU" sz="2800" spc="-1" strike="noStrike" baseline="30000">
                          <a:solidFill>
                            <a:srgbClr val="000000"/>
                          </a:solidFill>
                          <a:latin typeface="Georgia"/>
                          <a:ea typeface="Calibri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880" rIns="65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880" rIns="65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880" rIns="65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880" rIns="65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880" rIns="65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880" rIns="65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1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880" rIns="65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4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880" rIns="65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880" rIns="65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2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880" rIns="65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6" name="Прямоугольник 7"/>
          <p:cNvSpPr/>
          <p:nvPr/>
        </p:nvSpPr>
        <p:spPr>
          <a:xfrm>
            <a:off x="1173240" y="2133720"/>
            <a:ext cx="633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№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1  </a:t>
            </a: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Заполнить таблиц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Заполнить таблицу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25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23C41-A04C-405C-ABF5-4BB461B2A17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34940-CDF0-4AF7-912D-64F41E4BD4D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Прямоугольник 3"/>
          <p:cNvSpPr/>
          <p:nvPr/>
        </p:nvSpPr>
        <p:spPr>
          <a:xfrm>
            <a:off x="324000" y="1268280"/>
            <a:ext cx="8351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ов порядок выполнения действий в этом выражени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Прямоугольник 4"/>
          <p:cNvSpPr/>
          <p:nvPr/>
        </p:nvSpPr>
        <p:spPr>
          <a:xfrm>
            <a:off x="468360" y="260280"/>
            <a:ext cx="7361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йдем значение выражения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4 + 1)</a:t>
            </a:r>
            <a:r>
              <a:rPr b="0" lang="ru-RU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·2</a:t>
            </a:r>
            <a:r>
              <a:rPr b="0" lang="ru-RU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3</a:t>
            </a:r>
            <a:r>
              <a:rPr b="0" lang="ru-RU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Прямоугольник 5"/>
          <p:cNvSpPr/>
          <p:nvPr/>
        </p:nvSpPr>
        <p:spPr>
          <a:xfrm>
            <a:off x="395280" y="2492280"/>
            <a:ext cx="81374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ходим значение суммы в скобках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числяем квадраты и кубы чисел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олняем умножени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олняем слож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830C9-84A3-408C-99CC-292AC3A92B2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2" descr=""/>
          <p:cNvPicPr/>
          <p:nvPr/>
        </p:nvPicPr>
        <p:blipFill>
          <a:blip r:embed="rId1"/>
          <a:stretch/>
        </p:blipFill>
        <p:spPr>
          <a:xfrm>
            <a:off x="395280" y="1484280"/>
            <a:ext cx="7561440" cy="17416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3" descr=""/>
          <p:cNvPicPr/>
          <p:nvPr/>
        </p:nvPicPr>
        <p:blipFill>
          <a:blip r:embed="rId2"/>
          <a:stretch/>
        </p:blipFill>
        <p:spPr>
          <a:xfrm>
            <a:off x="611280" y="3429000"/>
            <a:ext cx="7408800" cy="1735200"/>
          </a:xfrm>
          <a:prstGeom prst="rect">
            <a:avLst/>
          </a:prstGeom>
          <a:ln w="0">
            <a:noFill/>
          </a:ln>
        </p:spPr>
      </p:pic>
      <p:sp>
        <p:nvSpPr>
          <p:cNvPr id="86" name="Прямоугольник 5"/>
          <p:cNvSpPr/>
          <p:nvPr/>
        </p:nvSpPr>
        <p:spPr>
          <a:xfrm>
            <a:off x="627120" y="333360"/>
            <a:ext cx="718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Georgia"/>
              </a:rPr>
              <a:t>Самостоятельная рабо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3E5D9-29A1-4A01-A424-A0B969D7F78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Прямоугольник 2"/>
          <p:cNvSpPr/>
          <p:nvPr/>
        </p:nvSpPr>
        <p:spPr>
          <a:xfrm>
            <a:off x="1882080" y="476280"/>
            <a:ext cx="48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Georgia"/>
              </a:rPr>
              <a:t>Домашнее зада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Прямоугольник 3"/>
          <p:cNvSpPr/>
          <p:nvPr/>
        </p:nvSpPr>
        <p:spPr>
          <a:xfrm>
            <a:off x="395280" y="2060640"/>
            <a:ext cx="8137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.3.4 учебника;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олнить задания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252,25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26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58413-3864-434F-9216-577EBD5517D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"/>
          <p:cNvSpPr/>
          <p:nvPr/>
        </p:nvSpPr>
        <p:spPr>
          <a:xfrm>
            <a:off x="539640" y="1998720"/>
            <a:ext cx="8280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Мне на уроке понравилось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Мне показалось трудным…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Я бы ещё хотел выполнить …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Главным результатом считаю…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Прямоугольник 3"/>
          <p:cNvSpPr/>
          <p:nvPr/>
        </p:nvSpPr>
        <p:spPr>
          <a:xfrm>
            <a:off x="0" y="260280"/>
            <a:ext cx="896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едлагаю  вам закончить предложения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FE17B-3021-4482-99B1-EC504A42BE3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826560" y="1484280"/>
            <a:ext cx="8137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Каков порядок выполнения действий при вычислении значения выражения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160 + 37 – 20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90 – 60 : 15;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80 – (15 + 25) : 5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) ( 12 · 3 + 14) : 2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0D067-5858-46BB-9A8A-F5EB41C78831}" type="slidenum">
              <a:rPr b="0" lang="ru-RU" sz="11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5"/>
          <p:cNvSpPr/>
          <p:nvPr/>
        </p:nvSpPr>
        <p:spPr>
          <a:xfrm>
            <a:off x="611280" y="1557360"/>
            <a:ext cx="8281800" cy="35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Georgia"/>
              </a:rPr>
              <a:t>2)Угадайте корни уравнения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Georgia"/>
              </a:rPr>
              <a:t>а) x · x = 25;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Georgia"/>
              </a:rPr>
              <a:t>б) y · y =81;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Georgia"/>
              </a:rPr>
              <a:t>в)a · a =1;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Georgia"/>
              </a:rPr>
              <a:t>г) b · b · b =0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044E5-AE95-418E-AC07-39DF72DBE2B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3"/>
          <p:cNvSpPr/>
          <p:nvPr/>
        </p:nvSpPr>
        <p:spPr>
          <a:xfrm>
            <a:off x="468360" y="1916280"/>
            <a:ext cx="83152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</a:t>
            </a: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авните выражения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+ 2 + 2 + 2 + 2    и     2 · 2 · 2 · 2 · 2</a:t>
            </a: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общего у них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м они отличаются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2746C-E285-4BE7-8D13-0B30EEC75A8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"/>
          <p:cNvSpPr/>
          <p:nvPr/>
        </p:nvSpPr>
        <p:spPr>
          <a:xfrm>
            <a:off x="1403280" y="1495080"/>
            <a:ext cx="6937560" cy="43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Georgia"/>
                <a:ea typeface="Times New Roman"/>
              </a:rPr>
              <a:t>Вы знаете, как сумму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Georgia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Georgia"/>
                <a:ea typeface="Times New Roman"/>
              </a:rPr>
              <a:t>2 + 2 + 2 + 2 +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Georgia"/>
                <a:ea typeface="Times New Roman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Georgia"/>
                <a:ea typeface="Times New Roman"/>
              </a:rPr>
              <a:t>записать короч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Georgia"/>
                <a:ea typeface="Times New Roman"/>
              </a:rPr>
              <a:t>2 + 2 + 2 + 2 + 2=2 · 5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Georgia"/>
                <a:ea typeface="Times New Roman"/>
              </a:rPr>
              <a:t>Что показывает число 2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Georgia"/>
                <a:ea typeface="Times New Roman"/>
              </a:rPr>
              <a:t>Что показывает число 5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DB4B9-7951-42D9-8976-335EED4E516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"/>
          <p:cNvSpPr/>
          <p:nvPr/>
        </p:nvSpPr>
        <p:spPr>
          <a:xfrm>
            <a:off x="1200960" y="873000"/>
            <a:ext cx="717732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Georgia"/>
                <a:ea typeface="Times New Roman"/>
              </a:rPr>
              <a:t>А как вы думаете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Georgia"/>
                <a:ea typeface="Times New Roman"/>
              </a:rPr>
              <a:t>можно ли произвед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Georgia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Georgia"/>
                <a:ea typeface="Times New Roman"/>
              </a:rPr>
              <a:t>2 · 2 · 2 · 2 ·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Georgia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Georgia"/>
                <a:ea typeface="Times New Roman"/>
              </a:rPr>
              <a:t>записать короче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710EC-D4FC-4A8C-8026-33F3F9ECE4F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-614520" y="-1971720"/>
            <a:ext cx="10373040" cy="1269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E420A-8C5D-4D49-85BB-9EF5A9B4EAE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2"/>
          <p:cNvSpPr/>
          <p:nvPr/>
        </p:nvSpPr>
        <p:spPr>
          <a:xfrm>
            <a:off x="468360" y="1312560"/>
            <a:ext cx="770400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Georgia"/>
                <a:ea typeface="Times New Roman"/>
              </a:rPr>
              <a:t>2 · 2 · 2 · 2 · 2 =2 </a:t>
            </a:r>
            <a:r>
              <a:rPr b="1" lang="ru-RU" sz="4000" spc="-1" strike="noStrike" baseline="30000">
                <a:solidFill>
                  <a:srgbClr val="000000"/>
                </a:solidFill>
                <a:latin typeface="Georgia"/>
                <a:ea typeface="Times New Roman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Georgia"/>
                <a:ea typeface="Times New Roman"/>
              </a:rPr>
              <a:t>Запись </a:t>
            </a:r>
            <a:r>
              <a:rPr b="1" lang="ru-RU" sz="4000" spc="-1" strike="noStrike">
                <a:solidFill>
                  <a:srgbClr val="000000"/>
                </a:solidFill>
                <a:latin typeface="Georgia"/>
                <a:ea typeface="Times New Roman"/>
              </a:rPr>
              <a:t>2 </a:t>
            </a:r>
            <a:r>
              <a:rPr b="1" lang="ru-RU" sz="4000" spc="-1" strike="noStrike" baseline="30000">
                <a:solidFill>
                  <a:srgbClr val="000000"/>
                </a:solidFill>
                <a:latin typeface="Georgia"/>
                <a:ea typeface="Times New Roman"/>
              </a:rPr>
              <a:t>5</a:t>
            </a:r>
            <a:r>
              <a:rPr b="0" lang="ru-RU" sz="4000" spc="-1" strike="noStrike">
                <a:solidFill>
                  <a:srgbClr val="000000"/>
                </a:solidFill>
                <a:latin typeface="Georgia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Georgia"/>
                <a:ea typeface="Times New Roman"/>
              </a:rPr>
              <a:t>читают “два в пятой степени”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Georgia"/>
                <a:ea typeface="Times New Roman"/>
              </a:rPr>
              <a:t>2 – основание степени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Georgia"/>
                <a:ea typeface="Times New Roman"/>
              </a:rPr>
              <a:t>5 – показатель степени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Georgia"/>
                <a:ea typeface="Times New Roman"/>
              </a:rPr>
              <a:t>2 </a:t>
            </a:r>
            <a:r>
              <a:rPr b="0" lang="ru-RU" sz="4000" spc="-1" strike="noStrike" baseline="30000">
                <a:solidFill>
                  <a:srgbClr val="000000"/>
                </a:solidFill>
                <a:latin typeface="Georgia"/>
                <a:ea typeface="Times New Roman"/>
              </a:rPr>
              <a:t>5</a:t>
            </a:r>
            <a:r>
              <a:rPr b="0" lang="ru-RU" sz="4000" spc="-1" strike="noStrike">
                <a:solidFill>
                  <a:srgbClr val="000000"/>
                </a:solidFill>
                <a:latin typeface="Georgia"/>
                <a:ea typeface="Times New Roman"/>
              </a:rPr>
              <a:t> – степень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" dur="1000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052F1-8D82-42C6-9564-7D1CBD64E04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4"/>
          <p:cNvSpPr/>
          <p:nvPr/>
        </p:nvSpPr>
        <p:spPr>
          <a:xfrm>
            <a:off x="324000" y="1599840"/>
            <a:ext cx="81356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  <a:ea typeface="Times New Roman"/>
              </a:rPr>
              <a:t>Запишем произведения в виде степени и найдем их значен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eorgi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  <a:ea typeface="Times New Roman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Georgia"/>
                <a:ea typeface="Times New Roman"/>
              </a:rPr>
              <a:t>4 · 4 · 4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eorgi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  <a:ea typeface="Times New Roman"/>
              </a:rPr>
              <a:t>3 · 3 · 3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eorgi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  <a:ea typeface="Times New Roman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Georgia"/>
                <a:ea typeface="Times New Roman"/>
              </a:rPr>
              <a:t>2 · 2 · 2 · 2 · 2 · 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29T12:50:59Z</dcterms:created>
  <dc:creator>Дунина Н.П.</dc:creator>
  <dc:description/>
  <cp:keywords>степени числа основания степени и показателя степени квадрата числа куба числа</cp:keywords>
  <dc:language>en-US</dc:language>
  <cp:lastModifiedBy>школа-интернат</cp:lastModifiedBy>
  <dcterms:modified xsi:type="dcterms:W3CDTF">2017-10-19T06:31:48Z</dcterms:modified>
  <cp:revision>34</cp:revision>
  <dc:subject>Степень числа</dc:subject>
  <dc:title>математика 5 класс ФГОС</dc:title>
</cp:coreProperties>
</file>